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5920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07560" y="4722480"/>
            <a:ext cx="4994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445680"/>
            <a:ext cx="29512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59200" y="9445680"/>
            <a:ext cx="29512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1829-4384-4708-9710-E6A5F221EC1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World_Economic_Forum"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42B0-944C-4E9F-8DF3-A5D1C38E37BF}"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920880" y="746280"/>
            <a:ext cx="4970160" cy="3727440"/>
          </a:xfrm>
          <a:prstGeom prst="rect">
            <a:avLst/>
          </a:prstGeom>
          <a:ln w="0">
            <a:noFill/>
          </a:ln>
        </p:spPr>
      </p:sp>
      <p:sp>
        <p:nvSpPr>
          <p:cNvPr id="18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DD72-9A10-4EF5-9601-BF69E77AD71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920880" y="746280"/>
            <a:ext cx="4970160" cy="3727440"/>
          </a:xfrm>
          <a:prstGeom prst="rect">
            <a:avLst/>
          </a:prstGeom>
          <a:ln w="0">
            <a:noFill/>
          </a:ln>
        </p:spPr>
      </p:sp>
      <p:sp>
        <p:nvSpPr>
          <p:cNvPr id="18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6A3A-CB44-4440-A6FC-A14FABEF1442}"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920880" y="746280"/>
            <a:ext cx="4970160" cy="3727440"/>
          </a:xfrm>
          <a:prstGeom prst="rect">
            <a:avLst/>
          </a:prstGeom>
          <a:ln w="0">
            <a:noFill/>
          </a:ln>
        </p:spPr>
      </p:sp>
      <p:sp>
        <p:nvSpPr>
          <p:cNvPr id="18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DC27-F791-4DA4-8A92-3B970F8123A2}"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920880" y="746280"/>
            <a:ext cx="4970160" cy="3727440"/>
          </a:xfrm>
          <a:prstGeom prst="rect">
            <a:avLst/>
          </a:prstGeom>
          <a:ln w="0">
            <a:noFill/>
          </a:ln>
        </p:spPr>
      </p:sp>
      <p:sp>
        <p:nvSpPr>
          <p:cNvPr id="19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64BD-ADBB-44B4-9984-5665C1CF3DD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920880" y="746280"/>
            <a:ext cx="4970160" cy="3727440"/>
          </a:xfrm>
          <a:prstGeom prst="rect">
            <a:avLst/>
          </a:prstGeom>
          <a:ln w="0">
            <a:noFill/>
          </a:ln>
        </p:spPr>
      </p:sp>
      <p:sp>
        <p:nvSpPr>
          <p:cNvPr id="195"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key to success in most private companies is the competitive drive - the need to differentiate one's enterprise from competitors by offering a more satisfactory and rewarding experience to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public sector, customers have no choice about authority to which they pay taxes, or the department responsible for renewing their driving licenses or releasing a pass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tizens and businesses may factor in the quality of public services when choosing their location inside or linguistically homogenous regions, but this is only true to a limited extent and primarily reflects on services such as healthcare nad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like a bank or a retailer, Government are not in a position to decide to price, market and service their product to target differnet customer segments, deliberately providing different service levels and differnet customer experience. Therfore all customers need to be treated equally, atleast for basic servi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5C6D-E6DB-40B7-B7A4-700E480E3FB6}"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920880" y="746280"/>
            <a:ext cx="4970160" cy="3727440"/>
          </a:xfrm>
          <a:prstGeom prst="rect">
            <a:avLst/>
          </a:prstGeom>
          <a:ln w="0">
            <a:noFill/>
          </a:ln>
        </p:spPr>
      </p:sp>
      <p:sp>
        <p:nvSpPr>
          <p:cNvPr id="198"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 </a:t>
            </a:r>
            <a:r>
              <a:rPr b="1" lang="it-IT" sz="1200" spc="-1" strike="noStrike">
                <a:solidFill>
                  <a:srgbClr val="000000"/>
                </a:solidFill>
                <a:latin typeface="Arial"/>
              </a:rPr>
              <a:t>Global Competitiveness Report</a:t>
            </a:r>
            <a:r>
              <a:rPr b="0" lang="it-IT" sz="1200" spc="-1" strike="noStrike">
                <a:solidFill>
                  <a:srgbClr val="000000"/>
                </a:solidFill>
                <a:latin typeface="Arial"/>
              </a:rPr>
              <a:t> is a yearly report published by the </a:t>
            </a:r>
            <a:r>
              <a:rPr b="0" lang="it-IT" sz="1200" spc="-1" strike="noStrike" u="sng">
                <a:solidFill>
                  <a:srgbClr val="ccccff"/>
                </a:solidFill>
                <a:uFillTx/>
                <a:latin typeface="Arial"/>
                <a:hlinkClick r:id="rId1"/>
              </a:rPr>
              <a:t>World Economic Forum</a:t>
            </a:r>
            <a:r>
              <a:rPr b="0" lang="it-IT" sz="1200" spc="-1" strike="noStrike">
                <a:solidFill>
                  <a:srgbClr val="000000"/>
                </a:solidFill>
                <a:latin typeface="Arial"/>
              </a:rPr>
              <a:t>. The report "assesses the ability of countries to provide high levels of prosperity to their citizens. This in turn depends on how productively a country uses available resources. Therefore, the Global Competitiveness Index measures the set of institutions, policies, and factors that set the sustainable current and medium-term levels of economic prosper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CC64-651F-46E9-9563-1ADCE4D4CA0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920880" y="746280"/>
            <a:ext cx="4970160" cy="3727440"/>
          </a:xfrm>
          <a:prstGeom prst="rect">
            <a:avLst/>
          </a:prstGeom>
          <a:ln w="0">
            <a:noFill/>
          </a:ln>
        </p:spPr>
      </p:sp>
      <p:sp>
        <p:nvSpPr>
          <p:cNvPr id="20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5FDC-458E-409D-967B-2A9B5B0CC1A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920880" y="746280"/>
            <a:ext cx="4970160" cy="3727440"/>
          </a:xfrm>
          <a:prstGeom prst="rect">
            <a:avLst/>
          </a:prstGeom>
          <a:ln w="0">
            <a:noFill/>
          </a:ln>
        </p:spPr>
      </p:sp>
      <p:sp>
        <p:nvSpPr>
          <p:cNvPr id="20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B7E89-0146-476F-91EB-B2123F9B0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2D097-6593-4950-B6D8-C10038BDC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FFFA7-5270-4E28-AEEF-8087B2CD0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496FA-2C84-438B-B38C-809BBCA6A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853187-51D2-42F3-A246-750D12BD59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21E62-0654-4953-AE97-3DE2426EF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3FCAE-63F6-48FF-9362-A8B100355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22B4C-108D-415E-B92C-260317C23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25C43-17E4-4A0B-9F83-1A879D57A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568CC-65E3-4940-B7A4-B780610A2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FC345-7DA4-40FD-B6E1-13248B7F8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C3C0D-C840-4DCE-AFE0-FCA35D2D1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59B2B-94FB-4D0D-BB03-D83C0CD6C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491F3-69A8-4303-B0D5-1862DF0B6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D5DE5-6E4A-4BB6-AC26-4D4465B8B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CD8CB-A12A-4BBD-99E8-410ADEBF86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9B8C3-0C2F-4B6E-8367-683BEDF49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243B8-AAF2-4679-8EE0-2180E3330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6D3D3-5387-478B-8B80-568892CF8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87451-499F-4AF0-A848-7912890E2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C39D9-8936-4598-A0FD-EEC2E0366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6D39B-1DED-4A84-ACF7-984DEEBEB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C180E-71CE-43D9-B307-B96FD4465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AAC51-C03E-4741-88F3-F5A705D62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4CB4-BAE1-4737-9F3F-C8E192BE137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BA35-7D84-44F3-80CC-83DC6E0AA54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767960"/>
            <a:ext cx="60166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a29e"/>
                </a:solidFill>
                <a:latin typeface="Arial"/>
              </a:rPr>
              <a:t>Citizen Oriented Governance</a:t>
            </a:r>
            <a:endParaRPr b="0" lang="en-US" sz="5400" spc="-1" strike="noStrike">
              <a:solidFill>
                <a:srgbClr val="00a29e"/>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n Introduction</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Authority vs. Public Service</a:t>
            </a:r>
            <a:endParaRPr b="0" lang="en-US" sz="4400" spc="-1" strike="noStrike">
              <a:solidFill>
                <a:srgbClr val="00a29e"/>
              </a:solidFill>
              <a:latin typeface="Arial"/>
            </a:endParaRPr>
          </a:p>
        </p:txBody>
      </p:sp>
      <p:sp>
        <p:nvSpPr>
          <p:cNvPr id="16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thoritarian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izen is at the service of the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ubjec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avour – mercy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elf interest-corruptio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istrust</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n accountabl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pacit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cess-oriented</a:t>
            </a:r>
            <a:endParaRPr b="0" lang="en-US" sz="2400" spc="-1" strike="noStrike">
              <a:solidFill>
                <a:srgbClr val="000000"/>
              </a:solidFill>
              <a:latin typeface="Tahoma"/>
            </a:endParaRPr>
          </a:p>
        </p:txBody>
      </p:sp>
      <p:sp>
        <p:nvSpPr>
          <p:cNvPr id="16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mocratic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tate is at the service of the Citize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izen / Clien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gh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mpartialit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us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ountabl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ansparenc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esult-orient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ore Values</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uthoritarian State:</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ate</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ciety</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dividual</a:t>
            </a:r>
            <a:endParaRPr b="0" lang="en-US" sz="2800" spc="-1" strike="noStrike">
              <a:solidFill>
                <a:srgbClr val="000000"/>
              </a:solidFill>
              <a:latin typeface="Tahoma"/>
            </a:endParaRPr>
          </a:p>
        </p:txBody>
      </p:sp>
      <p:sp>
        <p:nvSpPr>
          <p:cNvPr id="166" name="PlaceHolder 3"/>
          <p:cNvSpPr>
            <a:spLocks noGrp="1"/>
          </p:cNvSpPr>
          <p:nvPr>
            <p:ph/>
          </p:nvPr>
        </p:nvSpPr>
        <p:spPr>
          <a:xfrm>
            <a:off x="464832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emocratic State:</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itizen</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ciety</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ate</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itizen-oriented Governance</a:t>
            </a:r>
            <a:endParaRPr b="0" lang="en-US" sz="44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ut the citizen at the center of your activity</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a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fficient</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st-effectiv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dd valu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Right to acces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Picture 12" descr="vitruvian"/>
          <p:cNvPicPr/>
          <p:nvPr/>
        </p:nvPicPr>
        <p:blipFill>
          <a:blip r:embed="rId1"/>
          <a:stretch/>
        </p:blipFill>
        <p:spPr>
          <a:xfrm>
            <a:off x="479520" y="1628640"/>
            <a:ext cx="3792600" cy="424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Public vs. Private</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onopoly /monopsony</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versal services</a:t>
            </a:r>
            <a:br>
              <a:rPr sz="2400"/>
            </a:b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ne product/many need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need to obtain  customers’ loyalty</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evident relation between quality and cos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profi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petition</a:t>
            </a:r>
            <a:br>
              <a:rPr sz="2400"/>
            </a:b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arget customer segmen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fferent products /different need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ustomer loyalty</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rect relation between quality and cos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fit</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Global Competitiveness</a:t>
            </a:r>
            <a:endParaRPr b="0" lang="en-US" sz="4400" spc="-1" strike="noStrike">
              <a:solidFill>
                <a:srgbClr val="00a29e"/>
              </a:solidFill>
              <a:latin typeface="Arial"/>
            </a:endParaRPr>
          </a:p>
        </p:txBody>
      </p:sp>
      <p:sp>
        <p:nvSpPr>
          <p:cNvPr id="174" name="PlaceHolder 2"/>
          <p:cNvSpPr>
            <a:spLocks noGrp="1"/>
          </p:cNvSpPr>
          <p:nvPr>
            <p:ph/>
          </p:nvPr>
        </p:nvSpPr>
        <p:spPr>
          <a:xfrm>
            <a:off x="468360" y="1267920"/>
            <a:ext cx="8229600" cy="218916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Foreign Investments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migratio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Brain Drai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GCI of Ukraine = 82 (was 72 in 2008)</a:t>
            </a:r>
            <a:endParaRPr b="0" lang="en-US" sz="2800" spc="-1" strike="noStrike">
              <a:solidFill>
                <a:srgbClr val="000000"/>
              </a:solidFill>
              <a:latin typeface="Tahoma"/>
            </a:endParaRPr>
          </a:p>
        </p:txBody>
      </p:sp>
      <p:pic>
        <p:nvPicPr>
          <p:cNvPr id="175" name="Picture 13" descr="800px-Global_Competitiveness_Index_2008-2009"/>
          <p:cNvPicPr/>
          <p:nvPr/>
        </p:nvPicPr>
        <p:blipFill>
          <a:blip r:embed="rId1"/>
          <a:stretch/>
        </p:blipFill>
        <p:spPr>
          <a:xfrm>
            <a:off x="1042920" y="3500280"/>
            <a:ext cx="7345440" cy="317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Anything you can do about that?</a:t>
            </a:r>
            <a:endParaRPr b="0" lang="en-US" sz="4400" spc="-1" strike="noStrike">
              <a:solidFill>
                <a:srgbClr val="00a29e"/>
              </a:solidFill>
              <a:latin typeface="Arial"/>
            </a:endParaRPr>
          </a:p>
        </p:txBody>
      </p:sp>
      <p:sp>
        <p:nvSpPr>
          <p:cNvPr id="177" name="PlaceHolder 2"/>
          <p:cNvSpPr>
            <a:spLocks noGrp="1"/>
          </p:cNvSpPr>
          <p:nvPr>
            <p:ph/>
          </p:nvPr>
        </p:nvSpPr>
        <p:spPr>
          <a:xfrm>
            <a:off x="4648320" y="1599840"/>
            <a:ext cx="4038480" cy="4530600"/>
          </a:xfrm>
          <a:prstGeom prst="rect">
            <a:avLst/>
          </a:prstGeom>
          <a:noFill/>
          <a:ln w="0">
            <a:noFill/>
          </a:ln>
        </p:spPr>
        <p:txBody>
          <a:bodyPr anchor="t">
            <a:normAutofit/>
          </a:bodyPr>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 Property rights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1 Property right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Ethics and corruption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2 Diversion of publics funds</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3 Public trust of politician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 Undue influence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4 Judicial independence</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5 Favoritism in decisions of government official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4. Government inefficiency (red tape, bureaucracy and waste)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6 Wastefulness of government spending</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7 Burden of government regulation</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5. Security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8 Business costs of terrorism</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9 Reliability of police services</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10 Business costs of crime and violence</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11 Organized crime</a:t>
            </a:r>
            <a:endParaRPr b="0" lang="en-US" sz="1400" spc="-1" strike="noStrike">
              <a:solidFill>
                <a:srgbClr val="000000"/>
              </a:solidFill>
              <a:latin typeface="Tahoma"/>
            </a:endParaRPr>
          </a:p>
        </p:txBody>
      </p:sp>
      <p:pic>
        <p:nvPicPr>
          <p:cNvPr id="178" name="Picture 9" descr="red_army"/>
          <p:cNvPicPr/>
          <p:nvPr/>
        </p:nvPicPr>
        <p:blipFill>
          <a:blip r:embed="rId1"/>
          <a:stretch/>
        </p:blipFill>
        <p:spPr>
          <a:xfrm>
            <a:off x="961920" y="1600200"/>
            <a:ext cx="3029040" cy="4530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onclusion</a:t>
            </a:r>
            <a:endParaRPr b="0" lang="en-US" sz="4400" spc="-1" strike="noStrike">
              <a:solidFill>
                <a:srgbClr val="00a29e"/>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ccountability + Effectiveness of the Judiciary has an enormous role in the prosperity and competitiveness of a Countr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But… how we do ensure accountability? </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0:58:10Z</dcterms:created>
  <dc:creator>pippo</dc:creator>
  <dc:description/>
  <dc:language>en-US</dc:language>
  <cp:lastModifiedBy>lipovyi</cp:lastModifiedBy>
  <dcterms:modified xsi:type="dcterms:W3CDTF">2013-08-01T09:27:45Z</dcterms:modified>
  <cp:revision>7</cp:revision>
  <dc:subject/>
  <dc:title>Service Char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