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3F13-30CA-4E70-A9B3-33ACD128C33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8EBD-4DF7-4C42-B38A-CEA4D085444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4ECB-AC28-411D-B227-119E62955F0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F928-F2B1-4246-BDB2-4CC46183762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5 or 10 aggregates or dim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F865-B14B-45CC-9477-59DAAD1F127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A932-FCB4-4DE8-924A-9A1A3631E05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080B-1A82-4F3A-9BD0-6877C83CAEA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8B4B-1E97-48B6-BDCB-AD28AD00145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945D-AF70-4DF6-9F75-9E51C0B1616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86CF-D124-4421-B301-74ECA1CA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0DE-B2DF-496A-9FEF-6E54F48D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2AC-6FA2-40A9-8651-8A580AF9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984B-0F07-4FD1-A66F-1D96020E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BEF1-1F46-4A36-8E41-B221B908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0EFC-D6DC-46A9-8F2D-437D5C87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1DA2-0555-4227-9766-FCAEFAF8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7149-32F4-4F81-9E68-E115901F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5802-5A7D-41CB-9A85-664273AF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65B0-881E-4A9F-8477-BCCDE528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FAD5-449A-4AFF-AEA8-650C5C58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6BA-DCD8-4A4B-A84B-FC0C753C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3FDA-D6B6-46D4-AE35-5AF7AFFE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2680-EC71-4355-AE76-27852142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2026-4CEE-4788-9EB5-98BA1FC1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D149-8316-46B8-A62F-093ADBB8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CD8A-6F28-4BF6-BDD1-C3A39FBB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6CF-66AC-47AE-AC4C-C58FBC5C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619C-B27C-464E-AF0B-A23F104C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227-785D-4E62-B596-8483EB6A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F0C-D854-43AA-BBA1-87980030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8551-FB03-42F3-824A-D8B0C1FB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CE53-DE97-4849-945C-9CC0F475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B43-97F1-4D5A-B014-A0EA4D6A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FB6A-3669-43F5-9518-B9301B27C58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A1AB-32BE-4CCD-A21A-DD7A4351A0B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66"/>
                </a:solidFill>
                <a:latin typeface="Arial"/>
              </a:rPr>
              <a:t>Customer Satisfaction in the Public Administra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880" y="3427560"/>
            <a:ext cx="6259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Expectation – Experience</a:t>
            </a:r>
            <a:br>
              <a:rPr sz="3200"/>
            </a:b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Reputation  – Satisfac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3600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BEFORE going to cour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292720" y="1916280"/>
            <a:ext cx="3166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fter going to Cour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8" descr="courthouse"/>
          <p:cNvPicPr/>
          <p:nvPr/>
        </p:nvPicPr>
        <p:blipFill>
          <a:blip r:embed="rId1"/>
          <a:stretch/>
        </p:blipFill>
        <p:spPr>
          <a:xfrm>
            <a:off x="1042920" y="3213000"/>
            <a:ext cx="3270240" cy="255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courthouse"/>
          <p:cNvPicPr/>
          <p:nvPr/>
        </p:nvPicPr>
        <p:blipFill>
          <a:blip r:embed="rId2"/>
          <a:stretch/>
        </p:blipFill>
        <p:spPr>
          <a:xfrm>
            <a:off x="5219640" y="3284640"/>
            <a:ext cx="3270240" cy="25556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23"/>
          <p:cNvSpPr/>
          <p:nvPr/>
        </p:nvSpPr>
        <p:spPr>
          <a:xfrm>
            <a:off x="1979640" y="5661000"/>
            <a:ext cx="1295280" cy="936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24"/>
          <p:cNvSpPr/>
          <p:nvPr/>
        </p:nvSpPr>
        <p:spPr>
          <a:xfrm>
            <a:off x="6516720" y="5734080"/>
            <a:ext cx="1150920" cy="93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25" descr="sb"/>
          <p:cNvPicPr/>
          <p:nvPr/>
        </p:nvPicPr>
        <p:blipFill>
          <a:blip r:embed="rId3"/>
          <a:stretch/>
        </p:blipFill>
        <p:spPr>
          <a:xfrm>
            <a:off x="468360" y="2708280"/>
            <a:ext cx="1366920" cy="1239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ok"/>
          <p:cNvPicPr/>
          <p:nvPr/>
        </p:nvPicPr>
        <p:blipFill>
          <a:blip r:embed="rId4"/>
          <a:stretch/>
        </p:blipFill>
        <p:spPr>
          <a:xfrm>
            <a:off x="7451640" y="2708280"/>
            <a:ext cx="1481400" cy="13971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27"/>
          <p:cNvSpPr/>
          <p:nvPr/>
        </p:nvSpPr>
        <p:spPr>
          <a:xfrm>
            <a:off x="3924360" y="4149720"/>
            <a:ext cx="1584360" cy="1224000"/>
          </a:xfrm>
          <a:prstGeom prst="leftRightArrow">
            <a:avLst>
              <a:gd name="adj1" fmla="val 50000"/>
              <a:gd name="adj2" fmla="val 2576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Different percep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lient normally takes for granted technical and professional asp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ovider focusses on tecnical and professional asp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lient focusses on the quality of delivery and of the relationsh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ore informations (on technical aspects) = more satisfa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Gap / coherence analysis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0160" y="1827360"/>
          <a:ext cx="7313400" cy="3879720"/>
        </p:xfrm>
        <a:graphic>
          <a:graphicData uri="http://schemas.openxmlformats.org/drawingml/2006/table">
            <a:tbl>
              <a:tblPr/>
              <a:tblGrid>
                <a:gridCol w="3657600"/>
                <a:gridCol w="3655800"/>
              </a:tblGrid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ent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r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ected quali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targe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ceived quali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grante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The Cycle of Satisfa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Diagram 5"/>
          <p:cNvGrpSpPr/>
          <p:nvPr/>
        </p:nvGrpSpPr>
        <p:grpSpPr>
          <a:xfrm>
            <a:off x="1857960" y="2147760"/>
            <a:ext cx="5432760" cy="4474800"/>
            <a:chOff x="1857960" y="2147760"/>
            <a:chExt cx="5432760" cy="4474800"/>
          </a:xfrm>
        </p:grpSpPr>
        <p:sp>
          <p:nvSpPr>
            <p:cNvPr id="137" name="_s1028"/>
            <p:cNvSpPr/>
            <p:nvPr/>
          </p:nvSpPr>
          <p:spPr>
            <a:xfrm>
              <a:off x="2868840" y="2147760"/>
              <a:ext cx="3411360" cy="3096360"/>
            </a:xfrm>
            <a:custGeom>
              <a:avLst/>
              <a:gdLst>
                <a:gd name="textAreaLeft" fmla="*/ 0 w 3411360"/>
                <a:gd name="textAreaRight" fmla="*/ 3411720 w 3411360"/>
                <a:gd name="textAreaTop" fmla="*/ 0 h 3096360"/>
                <a:gd name="textAreaBottom" fmla="*/ 3096720 h 309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 rot="7200000">
              <a:off x="3491640" y="2723400"/>
              <a:ext cx="3096000" cy="341100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1000"/>
                <a:gd name="textAreaBottom" fmla="*/ 3411360 h 341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 rot="14400000">
              <a:off x="2561040" y="2723400"/>
              <a:ext cx="3096000" cy="341136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1360"/>
                <a:gd name="textAreaBottom" fmla="*/ 3411720 h 341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5508720" y="2712960"/>
              <a:ext cx="136800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900" spc="-1" strike="noStrike">
                  <a:solidFill>
                    <a:srgbClr val="000000"/>
                  </a:solidFill>
                  <a:latin typeface="Verdana"/>
                </a:rPr>
                <a:t>Assess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>
              <a:off x="3889440" y="5261040"/>
              <a:ext cx="136836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Verdana"/>
                </a:rPr>
                <a:t>Report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2268360" y="2714760"/>
              <a:ext cx="136836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500" spc="-1" strike="noStrike">
                  <a:solidFill>
                    <a:srgbClr val="000000"/>
                  </a:solidFill>
                  <a:latin typeface="Verdana"/>
                </a:rPr>
                <a:t>Improve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Customer Satisfaction assessment  methodology: the SERVQUAL mod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tangibles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liability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sponsiveness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petence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ccess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urtesy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munication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redibility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assurance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empath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Tangibles, Reliability, Responsivenes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angibles: Appearance of physical facilities, equipment, personnel, and communication material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Reliability: Ability to perform the promised service dependably and accuratel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Responsiveness: Willingness to help customers and provide prompt servi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“CCC”: Competence, Courtesy, Credi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mpetence: Possession of required skill and knowledge to perform servi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urtesy: Politeness, respect, consideration and friendliness of contact personnel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redibility: trustworthiness, believability, honesty of the service provider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Reassurance, Accessibility, Communication, Empath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Reassurance: freedom from risk or doub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ccess: Approachability and ease of contac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munication: Listens to its customers and acknowledges their comments. Keeps customers informed - in a language which they can understand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Understanding the customer: Making the effort to know customers and their need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Drivers of quality in a Court: Tangibl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unctionality of the Court build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leanliness of the Courtroo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ccessibility of the Courtroo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mmodities and util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’ appearan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vailability of information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Business hours are comfort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 are recogniz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Level of informatis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Drivers of quality in a Court: Relia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’ Helpfulnes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ransparency / Correct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ront office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pet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Prepar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Preci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Summary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at is Customer Satisfactio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o is the Customer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y we should assess C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How can we assess Customer Satisfaction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o should do i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Drivers of quality in a Court: Responsivenes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’ Courtesy (in person /by phon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imeliness of delive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 give ready response to question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lexible or bureucratic approach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4. Drivers of quality in a Court: Accessi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By phone, e-mail, we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s it easy to find what you need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s it accessible to handicapped, minoriti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Understandability of for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Understandability of signals/instru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5. Drivers of quality in a Court: Communication /Empath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apacity of listening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apacity of assisting the customer articulate his nee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evention /reduction of mistak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Openness to Customer Complaint /feedback /clai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How to assess and what to asses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Disseminate questionnai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ake phone cal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Give your clients a way to air complaints, to give feedback, to present compli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n questionnaires, focus on the whole range of services or one or two sec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at to assess: the 5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olicy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ocesses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eople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emises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oduct/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The International Customer Service Institut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o is doing i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nterviews can be done by professionals or by yoursel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o people who have experienced or are likely to experience Court 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.g: target on lawyers, citizens etc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How to assess satisfaction: </a:t>
            </a:r>
            <a:br>
              <a:rPr sz="3200"/>
            </a:b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the Likert sca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tem”: a (positive or negative) statement to be evalua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ive answers possibl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Neither agree nor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nswers are then summ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Questionnaires 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ust avoid obscure termin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ust present questions in a neutral w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Be sure that interviewed know what you are talking abo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ust not require memory eff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One aspect per i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Remeber you are assessing sensations (psychometry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Exampl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urt employees are courteous and professional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Neither agree nor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at nex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4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Report transparently (e.g: in the Service Charter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earn lessons: discuss with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ct to improve what can be impro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Customer” is…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 person who has a material experience of our 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otential” customers can provide info about reputation (e.g.: expectations) of the serv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Key word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ransparen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Liste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Understand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Open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itizen-oriented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Provider” is…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He who provides a public service and organizes its delive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at is Customer Satisfaction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ustomer Satisfaction is the way services provided meet / surpass / delude citizens’ expectation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he value of Satisfaction is the gap between expectations and exper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and why we should care?? 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n a public service, which is normally monopolistic, measuring CS is the only way to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assess the performance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. Private companies have other tools such as </a:t>
            </a:r>
            <a:r>
              <a:rPr b="0" lang="it-IT" sz="2500" spc="-1" strike="noStrike" u="sng">
                <a:solidFill>
                  <a:srgbClr val="000000"/>
                </a:solidFill>
                <a:uFillTx/>
                <a:latin typeface="Verdana"/>
              </a:rPr>
              <a:t>profit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Helps public services providers to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choose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priorities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of interven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Helps to improve service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nd the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putation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of the provid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Satisfaction adds value to the produ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Performanc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he capacity of pursuing the institutional purpose of a public service”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1908000" y="3860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372360" y="335772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sired End St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516720" y="4581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2050920" y="3860640"/>
            <a:ext cx="54738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468360" y="508464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WHERE you g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HOW you g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On the Provider side, performance is…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Productivity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(the capacity of turning factors of production into a product: input -&gt; output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fficiency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(working or operating in a way that gets the results you want without any waste)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ffectiveness: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producing the intended resul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On the Customer side, </a:t>
            </a:r>
            <a:br>
              <a:rPr sz="3200"/>
            </a:b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performance is…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ffectiveness: the way a public service satisfies a ne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ustomer satisfaction analizes the gap between the customer's </a:t>
            </a: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xpectation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of performance and their perceived </a:t>
            </a: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xperience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of performance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5:38:01Z</dcterms:created>
  <dc:creator>pippo</dc:creator>
  <dc:description/>
  <dc:language>en-US</dc:language>
  <cp:lastModifiedBy>lipovyi</cp:lastModifiedBy>
  <dcterms:modified xsi:type="dcterms:W3CDTF">2013-08-01T09:29:07Z</dcterms:modified>
  <cp:revision>13</cp:revision>
  <dc:subject/>
  <dc:title>Customer Satisfaction in the Public Administ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</Properties>
</file>