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5920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758F-8174-44B8-AFFE-7A3572C138D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C18A-71E0-433A-8CA9-9E3A37FEBC2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4C35-73E0-48FA-A674-04DE3A6C3E3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4B3E-1AB4-4682-8D3C-C5FC3D1CD7F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5 or 10 aggregates or dimen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71B9-F6EF-4BC8-A68F-57BFB84E9E1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D953-44D9-44FD-A72E-E916BDB70DE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3E1C-AD8B-475B-899A-8314E0F4B57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58EF-3BFD-4257-AA2D-EAF8A43CF24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5F95-8D3E-4D8C-AB9A-A3B821646F3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F661-0091-4EEB-9835-29481542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B7C9-B867-4282-882C-8012D0CF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1024-C0E1-4E96-AEB4-C455CC65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4733-2E1E-460C-A2B4-C2F47458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9D61-9A9B-4F49-BE1A-67E8D315C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81E1-1DB3-4D63-B980-CE67ACC7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1A26-1B0B-438A-9F00-7A0C5A21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26D7-E765-4D24-93F4-04C1B938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3CEE-3F00-4477-B8A7-A947ED82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BFC3-F836-4057-86B4-6A86DE7B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2330-8D6C-40C6-89DB-47A8F540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B7FE-C2A8-4AFF-8A0C-827C1A83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776A-C62E-4A0D-B130-8F1CF900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2047-D41E-414A-BC1B-B6A18BFB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A6A0-F3D8-4942-B318-0893FD0B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3705-DB48-491B-8295-D9938D64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952D-1C74-4144-8121-885878BB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938F-1522-4FE2-BB25-D78E7871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BC77-0EB9-49DF-B5CC-7BA75A77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248E-44A5-4717-A3CD-1D64BF1B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8FE7-22AF-4BCE-9B87-89A57DDD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E357-2527-434B-9303-84C241C0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D7B3-ECBE-48D9-A89B-F4D87779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0883-12C1-4D2A-98BC-0D6A3C24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7995-F41E-4D7F-AB13-3011B47AF68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9533-206B-4D10-8A1D-A0069292181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6666"/>
                </a:solidFill>
                <a:latin typeface="Arial"/>
              </a:rPr>
              <a:t>Customer Satisfaction in the Public Administration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880" y="3427560"/>
            <a:ext cx="6259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Expectation – Experience</a:t>
            </a:r>
            <a:br>
              <a:rPr sz="3200"/>
            </a:b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Reputation  – Satisfact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31640" y="1844640"/>
            <a:ext cx="36003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BEFORE going to cour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292720" y="1916280"/>
            <a:ext cx="3166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After going to Cour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18" descr="courthouse"/>
          <p:cNvPicPr/>
          <p:nvPr/>
        </p:nvPicPr>
        <p:blipFill>
          <a:blip r:embed="rId1"/>
          <a:stretch/>
        </p:blipFill>
        <p:spPr>
          <a:xfrm>
            <a:off x="1042920" y="3213000"/>
            <a:ext cx="3270240" cy="255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2" descr="courthouse"/>
          <p:cNvPicPr/>
          <p:nvPr/>
        </p:nvPicPr>
        <p:blipFill>
          <a:blip r:embed="rId2"/>
          <a:stretch/>
        </p:blipFill>
        <p:spPr>
          <a:xfrm>
            <a:off x="5219640" y="3284640"/>
            <a:ext cx="3270240" cy="255564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23"/>
          <p:cNvSpPr/>
          <p:nvPr/>
        </p:nvSpPr>
        <p:spPr>
          <a:xfrm>
            <a:off x="1979640" y="5661000"/>
            <a:ext cx="1295280" cy="936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AutoShape 24"/>
          <p:cNvSpPr/>
          <p:nvPr/>
        </p:nvSpPr>
        <p:spPr>
          <a:xfrm>
            <a:off x="6516720" y="5734080"/>
            <a:ext cx="1150920" cy="93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25" descr="sb"/>
          <p:cNvPicPr/>
          <p:nvPr/>
        </p:nvPicPr>
        <p:blipFill>
          <a:blip r:embed="rId3"/>
          <a:stretch/>
        </p:blipFill>
        <p:spPr>
          <a:xfrm>
            <a:off x="468360" y="2708280"/>
            <a:ext cx="1366920" cy="1239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6" descr="ok"/>
          <p:cNvPicPr/>
          <p:nvPr/>
        </p:nvPicPr>
        <p:blipFill>
          <a:blip r:embed="rId4"/>
          <a:stretch/>
        </p:blipFill>
        <p:spPr>
          <a:xfrm>
            <a:off x="7451640" y="2708280"/>
            <a:ext cx="1481400" cy="139716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27"/>
          <p:cNvSpPr/>
          <p:nvPr/>
        </p:nvSpPr>
        <p:spPr>
          <a:xfrm>
            <a:off x="3924360" y="4149720"/>
            <a:ext cx="1584360" cy="1224000"/>
          </a:xfrm>
          <a:prstGeom prst="leftRightArrow">
            <a:avLst>
              <a:gd name="adj1" fmla="val 50000"/>
              <a:gd name="adj2" fmla="val 25768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Different percep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lient normally takes for granted technical and professional aspe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rovider focusses on tecnical and professional aspe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lient focusses on the quality of delivery and of the relationshi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More informations (on technical aspects) = more satisfa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Gap / coherence analysis: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70160" y="1827360"/>
          <a:ext cx="7313400" cy="3879720"/>
        </p:xfrm>
        <a:graphic>
          <a:graphicData uri="http://schemas.openxmlformats.org/drawingml/2006/table">
            <a:tbl>
              <a:tblPr/>
              <a:tblGrid>
                <a:gridCol w="3657600"/>
                <a:gridCol w="3655800"/>
              </a:tblGrid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ient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vider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ected qualit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targe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ceived qualit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granted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The Cycle of Satisfa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6" name="Diagram 5"/>
          <p:cNvGrpSpPr/>
          <p:nvPr/>
        </p:nvGrpSpPr>
        <p:grpSpPr>
          <a:xfrm>
            <a:off x="1857960" y="2147760"/>
            <a:ext cx="5432760" cy="4474800"/>
            <a:chOff x="1857960" y="2147760"/>
            <a:chExt cx="5432760" cy="4474800"/>
          </a:xfrm>
        </p:grpSpPr>
        <p:sp>
          <p:nvSpPr>
            <p:cNvPr id="137" name="_s1028"/>
            <p:cNvSpPr/>
            <p:nvPr/>
          </p:nvSpPr>
          <p:spPr>
            <a:xfrm>
              <a:off x="2868840" y="2147760"/>
              <a:ext cx="3411360" cy="3096360"/>
            </a:xfrm>
            <a:custGeom>
              <a:avLst/>
              <a:gdLst>
                <a:gd name="textAreaLeft" fmla="*/ 0 w 3411360"/>
                <a:gd name="textAreaRight" fmla="*/ 3411720 w 3411360"/>
                <a:gd name="textAreaTop" fmla="*/ 0 h 3096360"/>
                <a:gd name="textAreaBottom" fmla="*/ 3096720 h 309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_s1029"/>
            <p:cNvSpPr/>
            <p:nvPr/>
          </p:nvSpPr>
          <p:spPr>
            <a:xfrm rot="7200000">
              <a:off x="3491640" y="2723400"/>
              <a:ext cx="3096000" cy="3411000"/>
            </a:xfrm>
            <a:custGeom>
              <a:avLst/>
              <a:gdLst>
                <a:gd name="textAreaLeft" fmla="*/ 0 w 3096000"/>
                <a:gd name="textAreaRight" fmla="*/ 3096360 w 3096000"/>
                <a:gd name="textAreaTop" fmla="*/ 0 h 3411000"/>
                <a:gd name="textAreaBottom" fmla="*/ 3411360 h 341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_s1030"/>
            <p:cNvSpPr/>
            <p:nvPr/>
          </p:nvSpPr>
          <p:spPr>
            <a:xfrm rot="14400000">
              <a:off x="2561040" y="2723400"/>
              <a:ext cx="3096000" cy="3411360"/>
            </a:xfrm>
            <a:custGeom>
              <a:avLst/>
              <a:gdLst>
                <a:gd name="textAreaLeft" fmla="*/ 0 w 3096000"/>
                <a:gd name="textAreaRight" fmla="*/ 3096360 w 3096000"/>
                <a:gd name="textAreaTop" fmla="*/ 0 h 3411360"/>
                <a:gd name="textAreaBottom" fmla="*/ 3411720 h 341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_s1031"/>
            <p:cNvSpPr/>
            <p:nvPr/>
          </p:nvSpPr>
          <p:spPr>
            <a:xfrm>
              <a:off x="5508720" y="2712960"/>
              <a:ext cx="1368000" cy="12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900" spc="-1" strike="noStrike">
                  <a:solidFill>
                    <a:srgbClr val="000000"/>
                  </a:solidFill>
                  <a:latin typeface="Verdana"/>
                </a:rPr>
                <a:t>Assess</a:t>
              </a:r>
              <a:endParaRPr b="0" lang="en-US" sz="3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_s1032"/>
            <p:cNvSpPr/>
            <p:nvPr/>
          </p:nvSpPr>
          <p:spPr>
            <a:xfrm>
              <a:off x="3889440" y="5261040"/>
              <a:ext cx="136836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00"/>
                  </a:solidFill>
                  <a:latin typeface="Verdana"/>
                </a:rPr>
                <a:t>Report</a:t>
              </a:r>
              <a:endParaRPr b="0" lang="en-US" sz="3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_s1033"/>
            <p:cNvSpPr/>
            <p:nvPr/>
          </p:nvSpPr>
          <p:spPr>
            <a:xfrm>
              <a:off x="2268360" y="2714760"/>
              <a:ext cx="1368360" cy="12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500" spc="-1" strike="noStrike">
                  <a:solidFill>
                    <a:srgbClr val="000000"/>
                  </a:solidFill>
                  <a:latin typeface="Verdana"/>
                </a:rPr>
                <a:t>Improve</a:t>
              </a:r>
              <a:endParaRPr b="0" lang="en-US" sz="35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Customer Satisfaction assessment  methodology: the SERVQUAL mod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tangibles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reliability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responsiveness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competence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access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courtesy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communication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credibility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reassurance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empath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1. Tangibles, Reliability, Responsivenes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Tangibles: Appearance of physical facilities, equipment, personnel, and communication material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Reliability: Ability to perform the promised service dependably and accurately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Responsiveness: Willingness to help customers and provide prompt servic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2. “CCC”: Competence, Courtesy, Credibilit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ompetence: Possession of required skill and knowledge to perform servic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ourtesy: Politeness, respect, consideration and friendliness of contact personnel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redibility: trustworthiness, believability, honesty of the service provider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3. Reassurance, Accessibility, Communication, Empath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Reassurance: freedom from risk or doubt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Access: Approachability and ease of contact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Communication: Listens to its customers and acknowledges their comments. Keeps customers informed - in a language which they can understand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Understanding the customer: Making the effort to know customers and their need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1. Drivers of quality in a Court: Tangibl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Functionality of the Court build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leanliness of the Courtroo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Accessibility of the Courtroo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ommodities and utili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Employees’ appearanc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Availability of information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Business hours are comfort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Employees are recogniz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Level of informatis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2. Drivers of quality in a Court: Reliabilit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Employees’ Helpfulnes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Transparency / Correctn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Front office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Compet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Prepar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Precis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Summary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What is Customer Satisfaction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Who is the Customer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Why we should assess C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How can we assess Customer Satisfaction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Who should do it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3. Drivers of quality in a Court: Responsivenes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Employees’ Courtesy (in person /by phon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Timeliness of delive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Employees give ready response to question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Flexible or bureucratic approach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4. Drivers of quality in a Court: Accessibilit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By phone, e-mail, web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Is it easy to find what you need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Is it accessible to handicapped, minoriti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Understandability of for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Understandability of signals/instru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5. Drivers of quality in a Court: Communication /Empath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apacity of listening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apacity of assisting the customer articulate his nee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revention /reduction of mistak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Openness to Customer Complaint /feedback /clai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How to assess and what to asses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Disseminate questionnai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Make phone cal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Give your clients a way to air complaints, to give feedback, to present complim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In questionnaires, focus on the whole range of services or one or two secto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What to assess: the 5P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olicy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rocesses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eople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remises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roduct/Serv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The International Customer Service Institut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Who is doing it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Interviews can be done by professionals or by yoursel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To people who have experienced or are likely to experience Court serv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E.g: target on lawyers, citizens etc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How to assess satisfaction: </a:t>
            </a:r>
            <a:br>
              <a:rPr sz="3200"/>
            </a:b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the Likert sca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Item”: a (positive or negative) statement to be evaluat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Five answers possibl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Strongly dis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Dis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Neither agree nor dis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Strongly 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Answers are then summ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Questionnaires 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Must avoid obscure termino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Must present questions in a neutral wa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Be sure that interviewed know what you are talking abou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must not require memory effor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One aspect per it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Remeber you are assessing sensations (psychometry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Exampl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ourt employees are courteous and professional”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Strongly dis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Dis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Neither agree nor dis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Strongly 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What next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44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Report transparently (e.g: in the Service Charter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earn lessons: discuss with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Act to improve what can be impro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Customer” is…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a person who has a material experience of our serv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otential” customers can provide info about reputation (e.g.: expectations) of the servi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Key word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Transparen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Listen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Understand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Openn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itizen-orientedn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Provider” is…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He who provides a public service and organizes its delive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What is Customer Satisfaction…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ustomer Satisfaction is the way services provided meet / surpass / delude citizens’ expectation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The value of Satisfaction is the gap between expectations and exper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…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and why we should care?? 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n a public service, which is normally monopolistic, measuring CS is the only way to </a:t>
            </a: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assess the performance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. Private companies have other tools such as </a:t>
            </a:r>
            <a:r>
              <a:rPr b="0" lang="it-IT" sz="2500" spc="-1" strike="noStrike" u="sng">
                <a:solidFill>
                  <a:srgbClr val="000000"/>
                </a:solidFill>
                <a:uFillTx/>
                <a:latin typeface="Verdana"/>
              </a:rPr>
              <a:t>profit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Helps public services providers to </a:t>
            </a: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choose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priorities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of interven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Helps to improve service </a:t>
            </a: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and the </a:t>
            </a: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reputation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of the provid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Satisfaction adds value to the produc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Performance”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The capacity of pursuing the institutional purpose of a public service”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1908000" y="386064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372360" y="335772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sired End St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6516720" y="4581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Achiev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2050920" y="3860640"/>
            <a:ext cx="54738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468360" y="5084640"/>
            <a:ext cx="3166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WHERE you g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HOW you g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On the Provider side, performance is…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000000"/>
                </a:solidFill>
                <a:latin typeface="Verdana"/>
              </a:rPr>
              <a:t>Productivity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(the capacity of turning factors of production into a product: input -&gt; output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000000"/>
                </a:solidFill>
                <a:latin typeface="Verdana"/>
              </a:rPr>
              <a:t>Efficiency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(working or operating in a way that gets the results you want without any waste) 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000000"/>
                </a:solidFill>
                <a:latin typeface="Verdana"/>
              </a:rPr>
              <a:t>Effectiveness: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producing the intended resul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On the Customer side, </a:t>
            </a:r>
            <a:br>
              <a:rPr sz="3200"/>
            </a:b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performance is…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Effectiveness: the way a public service satisfies a ne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ustomer satisfaction analizes the gap between the customer's </a:t>
            </a:r>
            <a:r>
              <a:rPr b="1" lang="it-IT" sz="2900" spc="-1" strike="noStrike">
                <a:solidFill>
                  <a:srgbClr val="000000"/>
                </a:solidFill>
                <a:latin typeface="Verdana"/>
              </a:rPr>
              <a:t>expectation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of performance and their perceived </a:t>
            </a:r>
            <a:r>
              <a:rPr b="1" lang="it-IT" sz="2900" spc="-1" strike="noStrike">
                <a:solidFill>
                  <a:srgbClr val="000000"/>
                </a:solidFill>
                <a:latin typeface="Verdana"/>
              </a:rPr>
              <a:t>experience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of performance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5:38:01Z</dcterms:created>
  <dc:creator>pippo</dc:creator>
  <dc:description/>
  <dc:language>en-US</dc:language>
  <cp:lastModifiedBy>lipovyi</cp:lastModifiedBy>
  <dcterms:modified xsi:type="dcterms:W3CDTF">2013-08-01T09:29:07Z</dcterms:modified>
  <cp:revision>13</cp:revision>
  <dc:subject/>
  <dc:title>Customer Satisfaction in the Public Administ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0</vt:r8>
  </property>
  <property fmtid="{D5CDD505-2E9C-101B-9397-08002B2CF9AE}" pid="3" name="Version">
    <vt:r8>1</vt:r8>
  </property>
</Properties>
</file>