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592B-7AF0-4597-9426-5565C1ABFD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A90-C8CA-409D-AD52-C1F15DD7A3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862D-E43C-4F14-A564-CC3667C411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F84-924C-4008-93E4-8D50E16FF7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98A1-EC3E-4DA7-B375-35B138B3A1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B2C1-CBEA-4D28-8219-42D1461C2C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25DC-BA2F-4708-A884-9B3C70349BD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8E0-18F8-4C7C-A1F4-371FE9A7E0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CAE-17C6-44C5-BB3C-B87763DEAD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468-D4CA-415C-ABAD-46A2678CC9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F82-3C7C-401C-B8D5-143525D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466-FC21-4D95-9F0D-F347685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D29-E75A-42C4-A6F3-D4B92620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879-DB5F-4907-9714-C251F963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7A9-29F9-412F-B812-3E35AF86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BDBA-99B2-488F-B44C-3E51FC2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CBEA-1294-49D2-8EDA-2C486DE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C47-923A-4873-B64D-9EF1C549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9F52-1AAF-41E9-82FE-2CF993D3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4CB7-049E-4151-9C9E-9E9ADC1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D774-7504-4D7A-B2F1-6B34730F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719-2B74-4F8D-8B51-14979913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42C9-736F-414D-A965-0C0A280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7FB6-20FD-4990-BA03-0C14F72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46F1-4A93-4835-91D1-A3F522E7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F2CC-872E-46F0-92C1-48D3F69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56A6-2637-4280-83E3-614345DC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B11-C57F-4682-9429-B9F2C568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30E-0385-4A06-B4B2-06E7A2A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B14-533C-4674-93EC-5DDD22B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508-1962-4632-986C-1B3B4CEE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A4E-0339-4EA5-B2BF-2A6E5A2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32F-28E7-4F48-9933-B9917319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B74-8382-4A7B-A79E-42D48B9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701-1E03-4422-919E-C9DD9091A4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6CBB-1434-45AD-ACB2-7DB00D2E1B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адоволеність кл</a:t>
            </a: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ієнт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в державному управлінні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чікуванн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Досвід</a:t>
            </a:r>
            <a:br>
              <a:rPr sz="3200"/>
            </a:b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Репутаці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адоволе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СЛЯ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ізне сприйня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азвичай приймає як належне і професійні і технічні аспект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стачальник зосереджується на технічних і професійних аспектах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осереджується на якості впровадження і якості відносин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даткова інформація (технічні аспекти) = більше задоволе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озмежованість / Послідовність аналізу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авець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ікув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кість - ці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ийм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антує які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иклічність задоволе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785240" y="2147760"/>
            <a:ext cx="5432400" cy="4474800"/>
            <a:chOff x="1785240" y="2147760"/>
            <a:chExt cx="5432400" cy="4474800"/>
          </a:xfrm>
        </p:grpSpPr>
        <p:sp>
          <p:nvSpPr>
            <p:cNvPr id="137" name="_s1028"/>
            <p:cNvSpPr/>
            <p:nvPr/>
          </p:nvSpPr>
          <p:spPr>
            <a:xfrm>
              <a:off x="2796120" y="2147760"/>
              <a:ext cx="3411000" cy="3096360"/>
            </a:xfrm>
            <a:custGeom>
              <a:avLst/>
              <a:gdLst>
                <a:gd name="textAreaLeft" fmla="*/ 0 w 3411000"/>
                <a:gd name="textAreaRight" fmla="*/ 3411360 w 341100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18560" y="2723760"/>
              <a:ext cx="3096000" cy="341064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0640"/>
                <a:gd name="textAreaBottom" fmla="*/ 3411000 h 34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487960" y="272304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43564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Оцінка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1636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Доповідь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19564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Вдосконалення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одологія оцінки задоволеності споживач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статковані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вічлив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унікаці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овір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певненн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емпаті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аткування, надійність, чу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аткування: поява фізичних засобів, обладнання; персонал та інформаційні матеріал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дійність: здатність виконувати обіцяні послуги надійно і точн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еративність: бажання допомогти клієнтам і забезпечити оперативне обслуговув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компетентність, ввічливість, авторитет»  3 СС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етенція: володіння необхідними навичками і знаннями для виконання послуг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являти: ввічливість, повагу, увагу і дружелюбність персоналу контакт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едитоспроможність: надійність, реалістичність, чесність постачальника послуг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евнення, доступність, комунікативність, емпаті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тіха: свобода від небезпеки або сумніві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ступ: доступністю і простотою в контактуванн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унікативність: Слухає своїх клієнтів і підтверджує їх зауваження. Інформує клієнтів - мовою, яку вони можуть зрозуміт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зуміння замовника: додавати зусиль, спрямованих на пізнання клієнтів та їх потреб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матеріальна забезпече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ункціональність будівлю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истота в залі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 залів судових засідан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ировинні товари та комунальні послуг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исутність співробіт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явність інформац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нучкість робочого графі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овнішнє розпізнавання праців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івень інформатизації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Наді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опоміжні можливості працівникі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 / Коректні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ерівництв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ле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оч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ороткий огля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Що означає задоволеність клієнта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Хто вважається клієнтом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ому ми повинні оцінювати задоволеність клієнтів?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Яким чином оцінити задоволеність клієнтів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то повинен цим займатис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Оператив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вічливість працівників (персональна / по телефону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єчасність вико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івробітники готові дати відповідь на питанн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нучкий або бюрократичний підхід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инники якості в суді: Доступніст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телефону, електронною поштою, веб-портал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легко знайти те, що вам потрібн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достатній доступ для інвалідів, меншин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фор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сигналів / інструкці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Зв'язок / Співчу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міння слух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мога допомоги клієнту сформулювати його ж потреб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філактика / скорочення помило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критість для клієнта скарги /пропозиції / претензії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/ що оцінити?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ширення анкет-опитувань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Телефонув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йте вашим клієнтам спосіб оголосити скаргу, дати вказівку, щодо скар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аючи на запитання, зосередити увагу на цілий ряд послуг, або одного або двох секторі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потрібно оцінювати: 5 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літи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цес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сті Люд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иміще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дукт/по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ІЖНАРОДНИЙ ІНСТИТУТ СЛУЖБИ СПОЖИВАЧІВ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Хто цим займаєтьс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Інтерв'ю може бути зроблено фахівцями або Вами особист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людей, які користувались або можуть зкористатися судовими послугам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-Націленість на адвокатів, громадян і  т.д. і т.п.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задовільність: шкала Лайкер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ункт": (позитивне або негативне) заяви повинні оцінюватис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'ять можливих відповідей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і потім сумуютьс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кетування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инні уникати неясної термінолог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повинні задаватися в нейтральній форм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ьте впевнені, що опитані знають про, що ви говорит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не повинні вимагати зусиль пам'ят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ин з аспектів по кожному пункту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м'ятайте, що ви оцінюєте відчуття (Психометрія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риклад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 Співробітники Суду ввічливі і професійні"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далі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відь прозорості (так як в Хартії надання послуг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ки: обговорити із співробітникам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кращення того, що може бути покращен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лієнт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це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оба, що має матеріальний досвід наших послу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отенційні" клієнти можуть надати інформацію про репутацію (наприклад, очікування) послуг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Ключові слова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ислуховува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умі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ідкрит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лаштованість на громадя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Як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остачальник” – ц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й, хто надає послуги громадськості і організовує їх викон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до таке задоволеність клієн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ість клієнтів є способом надання послуг за яким Ви перевершуєте іх очікування (не обдурити громадян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чення задоволеності це прорив між очікуваннями та досві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.. чому ми повинні про це дбати?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державній службі, як правило, монополістичній, вимірювання клієнтської задоволеності це єдиний спосіб оцінки продуктивності. Приватні компанії мають інші інструменти оцінки, такі як прибуток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магає постачальниками державних послуг послуг вибирати пріоритети втручанн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магає поліпшити якість обслуговування і репутацію постачальн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овільність додає цінності продукт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Виконанн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атність впровадити інституційні цілі державної служби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213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ажана державна м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трим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4572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е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а стороні постачальника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виконання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1827360"/>
            <a:ext cx="7826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ість (потенціал перетворення фактору виробництва в продукті: вхідний -&gt; вихід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 (працює або працює у спосіб, який дає бажаний результат без будь-яких зволікань)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очікувані результа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301320"/>
            <a:ext cx="7754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і сторони клієнта, виконання -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метод яким державні послуги задовільняють потребу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ня потреб клієнтів вказує на різницю між продуктивністю очікувану клієнтом та передбачуваний досвід у їх виконанн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21Z</dcterms:modified>
  <cp:revision>57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