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505B-2A0B-4AC1-8E6F-EA02C7149B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303B-31F6-4133-9223-9CD186C7AE1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45B1-77E3-436F-BC34-396112E53F0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40D4-60ED-4796-9A5B-EE2EB2A9234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 or 10 aggregates or 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5C61-2D2A-4644-91F0-60F54B1A33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8BCE-8EF6-43A5-96FA-12D339DF48C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1F69-E306-4C5A-B6F4-888DEA76ADB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6995-DBBF-40D4-A30A-D3885983331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7817-717C-40F2-83FE-8EFC269E1C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8D92-E398-4895-BBCE-F5B9305C6D5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328-4838-43DC-A4FF-9D2DE1B7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0DA-08A1-47E0-9CB3-214CDA42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AB8-2A7F-4E24-9350-1E5861AB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898-7D21-47FE-9E63-5A342AF5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2466-766C-4100-A9D1-2F6C7606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5846-02AE-4DED-9C93-00D379FB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C7A0-0F86-4A1E-ADC5-E0A1EBFD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63D6-4D70-4437-90C4-B7704618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19ED-D7CC-4EC6-945F-C3C9A0D5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093D-3098-4E4C-8B19-6C1763E3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5868-F88E-4B64-88FD-8F78F912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2C0-48C9-46B3-85F0-98E9AEFA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75BA-F4F9-48AB-93E0-72AEEB2E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94F2-20E4-468B-AF4E-D01E96F4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47F8-BFAE-431C-8921-17663418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8B9C-A489-4D45-8A2E-6B9BF07A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AD46-35FB-46FE-AA5B-2D17A7C3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3CD-7568-4E1A-B133-3BA6D396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C91-9F43-4E0C-BE12-1011D77D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BB2-11CF-493F-BC65-2714D3CE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2DC-71F6-4D88-8129-4AAEBF0F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594-F14B-4B4B-94FD-6C235570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351-5179-4AEB-95AE-EA34D4C8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F82-34F9-41DE-A893-C36FC51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F34F-09D6-40B8-A8AA-DAE0535A0A8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31FC-A950-4C3D-9E6D-33414A81456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980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Задоволеність кл</a:t>
            </a:r>
            <a:r>
              <a:rPr b="0" lang="uk-UA" sz="4000" spc="-1" strike="noStrike">
                <a:solidFill>
                  <a:srgbClr val="006666"/>
                </a:solidFill>
                <a:latin typeface="Arial"/>
              </a:rPr>
              <a:t>ієнт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в державному управлінні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880" y="342756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чікування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Досвід</a:t>
            </a:r>
            <a:br>
              <a:rPr sz="3200"/>
            </a:b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Репутація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Задоволе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 звернення в Су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92720" y="1916280"/>
            <a:ext cx="31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СЛЯ звернення в Су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courthouse"/>
          <p:cNvPicPr/>
          <p:nvPr/>
        </p:nvPicPr>
        <p:blipFill>
          <a:blip r:embed="rId1"/>
          <a:stretch/>
        </p:blipFill>
        <p:spPr>
          <a:xfrm>
            <a:off x="1042920" y="3213000"/>
            <a:ext cx="3270240" cy="25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courthouse"/>
          <p:cNvPicPr/>
          <p:nvPr/>
        </p:nvPicPr>
        <p:blipFill>
          <a:blip r:embed="rId2"/>
          <a:stretch/>
        </p:blipFill>
        <p:spPr>
          <a:xfrm>
            <a:off x="5219640" y="3284640"/>
            <a:ext cx="327024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3"/>
          <p:cNvSpPr/>
          <p:nvPr/>
        </p:nvSpPr>
        <p:spPr>
          <a:xfrm>
            <a:off x="1979640" y="5661000"/>
            <a:ext cx="1295280" cy="936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6516720" y="573408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5" descr="sb"/>
          <p:cNvPicPr/>
          <p:nvPr/>
        </p:nvPicPr>
        <p:blipFill>
          <a:blip r:embed="rId3"/>
          <a:stretch/>
        </p:blipFill>
        <p:spPr>
          <a:xfrm>
            <a:off x="468360" y="2708280"/>
            <a:ext cx="136692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ok"/>
          <p:cNvPicPr/>
          <p:nvPr/>
        </p:nvPicPr>
        <p:blipFill>
          <a:blip r:embed="rId4"/>
          <a:stretch/>
        </p:blipFill>
        <p:spPr>
          <a:xfrm>
            <a:off x="7451640" y="2708280"/>
            <a:ext cx="148140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7"/>
          <p:cNvSpPr/>
          <p:nvPr/>
        </p:nvSpPr>
        <p:spPr>
          <a:xfrm>
            <a:off x="3924360" y="4149720"/>
            <a:ext cx="1584360" cy="1224000"/>
          </a:xfrm>
          <a:prstGeom prst="leftRightArrow">
            <a:avLst>
              <a:gd name="adj1" fmla="val 50000"/>
              <a:gd name="adj2" fmla="val 257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ізне сприйнятт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ієнт зазвичай приймає як належне і професійні і технічні аспект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стачальник зосереджується на технічних і професійних аспектах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ієнт зосереджується на якості впровадження і якості відносин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одаткова інформація (технічні аспекти) = більше задоволе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Розмежованість / Послідовність аналізу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0160" y="1827360"/>
          <a:ext cx="7313400" cy="387972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истувач</a:t>
                      </a: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давець</a:t>
                      </a: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чікувана якіс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кість - ці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риймана якіс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антує якіст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иклічність задоволеності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Diagram 5"/>
          <p:cNvGrpSpPr/>
          <p:nvPr/>
        </p:nvGrpSpPr>
        <p:grpSpPr>
          <a:xfrm>
            <a:off x="1785240" y="2147760"/>
            <a:ext cx="5432400" cy="4474800"/>
            <a:chOff x="1785240" y="2147760"/>
            <a:chExt cx="5432400" cy="4474800"/>
          </a:xfrm>
        </p:grpSpPr>
        <p:sp>
          <p:nvSpPr>
            <p:cNvPr id="137" name="_s1028"/>
            <p:cNvSpPr/>
            <p:nvPr/>
          </p:nvSpPr>
          <p:spPr>
            <a:xfrm>
              <a:off x="2796120" y="2147760"/>
              <a:ext cx="3411000" cy="3096360"/>
            </a:xfrm>
            <a:custGeom>
              <a:avLst/>
              <a:gdLst>
                <a:gd name="textAreaLeft" fmla="*/ 0 w 3411000"/>
                <a:gd name="textAreaRight" fmla="*/ 3411360 w 341100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 rot="7200000">
              <a:off x="3418560" y="2723760"/>
              <a:ext cx="3096000" cy="341064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0640"/>
                <a:gd name="textAreaBottom" fmla="*/ 3411000 h 341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 rot="14400000">
              <a:off x="2487960" y="2723040"/>
              <a:ext cx="3096000" cy="341100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000"/>
                <a:gd name="textAreaBottom" fmla="*/ 3411360 h 34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5435640" y="2712960"/>
              <a:ext cx="136800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Оцінка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816360" y="5261040"/>
              <a:ext cx="13683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Доповідь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2195640" y="2714760"/>
              <a:ext cx="136836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Вдосконалення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етодологія оцінки задоволеності споживач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устатковані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дій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уй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петент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уп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вічлив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унікація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овір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апевнення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емпаті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таткування, надійність, чуй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статкування: поява фізичних засобів, обладнання; персонал та інформаційні матеріал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дійність: здатність виконувати обіцяні послуги надійно і точно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еративність: бажання допомогти клієнтам і забезпечити оперативне обслуговува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компетентність, ввічливість, авторитет»  3 СС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мпетенція: володіння необхідними навичками і знаннями для виконання послуг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иявляти: ввічливість, повагу, увагу і дружелюбність персоналу контакт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едитоспроможність: надійність, реалістичність, чесність постачальника послуг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певнення, доступність, комунікативність, емпаті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тіха: свобода від небезпеки або сумнівів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ступ: доступністю і простотою в контактуванн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унікативність: Слухає своїх клієнтів і підтверджує їх зауваження. Інформує клієнтів - мовою, яку вони можуть зрозуміт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озуміння замовника: додавати зусиль, спрямованих на пізнання клієнтів та їх потреб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матеріальна забезпече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Функціональність будівлю су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истота в залі су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упність залів судових засідан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ировинні товари та комунальні послуг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рисутність співробітник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явність інформац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Гнучкість робочого графік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овнішнє розпізнавання працівник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івень інформатизації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Надій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опоміжні можливості працівникі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зорість / Коректні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ерівництво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петент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дготовле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оч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дійн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Короткий огля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Що означає задоволеність клієнта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Хто вважається клієнтом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ому ми повинні оцінювати задоволеність клієнтів?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Яким чином оцінити задоволеність клієнтів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Хто повинен цим займатися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Оператив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вічливість працівників (персональна / по телефону)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воєчасність викона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півробітники готові дати відповідь на питання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нучкий або бюрократичний підхід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инники якості в суді: Доступність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 телефону, електронною поштою, веб-портал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и легко знайти те, що вам потрібн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и достатній доступ для інвалідів, меншин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розумілість форм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розумілість сигналів / інструкцій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Зв'язок / Співчутт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міння слуха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мога допомоги клієнту сформулювати його ж потреб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філактика / скорочення помилок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критість для клієнта скарги /пропозиції / претензії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Як оцінити / що оцінити?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ширення анкет-опитувань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Телефонува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йте вашим клієнтам спосіб оголосити скаргу, дати вказівку, щодо скар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повідаючи на запитання, зосередити увагу на цілий ряд послуг, або одного або двох секторі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 потрібно оцінювати: 5 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олітик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цеси;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сті Люди;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иміще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дукт/послу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МІЖНАРОДНИЙ ІНСТИТУТ СЛУЖБИ СПОЖИВАЧІВ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Хто цим займається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Інтерв'ю може бути зроблено фахівцями або Вами особисто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людей, які користувались або можуть зкористатися судовими послугам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-Націленість на адвокатів, громадян і  т.д. і т.п.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Як оцінити задовільність: шкала Лайкерт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Пункт": (позитивне або негативне) заяви повинні оцінюватися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'ять можливих відповідей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рішуче не згодний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не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Швидше згодний, як ні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абсолютно згодний.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повіді потім сумуютьс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нкетування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винні уникати неясної термінолог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итання повинні задаватися в нейтральній форм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ьте впевнені, що опитані знають про, що ви говорит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итання не повинні вимагати зусиль пам'ят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дин з аспектів по кожному пункту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ам'ятайте, що ви оцінюєте відчуття (Психометрія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риклад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 Співробітники Суду ввічливі і професійні"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рішуче не згодний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не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швидше згодний, як ні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абсолютно згодний.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 далі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повідь прозорості (так як в Хартії надання послуг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роки: обговорити із співробітникам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кращення того, що може бути покращено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Клієнт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”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-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це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соба, що має матеріальний досвід наших послуг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Потенційні" клієнти можуть надати інформацію про репутацію (наприклад, очікування) послуг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Ключові слова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зор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ислуховуванн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Розумінн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ідкрит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алаштованість на громадя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Як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остачальник” – це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й, хто надає послуги громадськості і організовує їх викона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до таке задоволеність клієн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оволеність клієнтів є способом надання послуг за яким Ви перевершуєте іх очікування (не обдурити громадян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начення задоволеності це прорив між очікуваннями та досвідом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... чому ми повинні про це дбати?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державній службі, як правило, монополістичній, вимірювання клієнтської задоволеності це єдиний спосіб оцінки продуктивності. Приватні компанії мають інші інструменти оцінки, такі як прибуток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помагає постачальниками державних послуг послуг вибирати пріоритети втручанн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помагає поліпшити якість обслуговування і репутацію постачальник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довільність додає цінності продукт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Виконання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датність впровадити інституційні цілі державної служби"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908000" y="3860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372360" y="321300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бажана державна м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516720" y="458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отрим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050920" y="3860640"/>
            <a:ext cx="5473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8360" y="457200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е Ви досяг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к Ви досяг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На стороні постачальника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виконання це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7160" y="1827360"/>
            <a:ext cx="782640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дуктивність (потенціал перетворення фактору виробництва в продукті: вхідний -&gt; вихідний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 (працює або працює у спосіб, який дає бажаний результат без будь-яких зволікань)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: очікувані результа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8440" y="301320"/>
            <a:ext cx="7754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Зі сторони клієнта, виконання - це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: метод яким державні послуги задовільняють потребу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оволення потреб клієнтів вказує на різницю між продуктивністю очікувану клієнтом та передбачуваний досвід у їх виконанні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8:01Z</dcterms:created>
  <dc:creator>pippo</dc:creator>
  <dc:description/>
  <dc:language>en-US</dc:language>
  <cp:lastModifiedBy>lipovyi</cp:lastModifiedBy>
  <dcterms:modified xsi:type="dcterms:W3CDTF">2013-08-01T09:29:21Z</dcterms:modified>
  <cp:revision>57</cp:revision>
  <dc:subject/>
  <dc:title>Customer Satisfaction in the Public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