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2194-82B6-4557-A08A-A2340892FD3F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0EA6-2DAA-4AC9-8DDE-16C7A995302F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D2C1F8E4-017F-4E34-AA9B-0099CAA11103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41F16BDB-D54B-478A-8ECF-5EAA25B37786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6754ED60-B984-4644-BDDE-057095B1EF0B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DE8FD8BE-EE9D-47B1-87C5-FF80D87B5C1A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AF84D2C7-B9FE-41FB-B5B2-EB77F8690447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FCDA56A8-A7FD-46BE-AFF3-A85B60417339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100"/>
              </a:spcBef>
              <a:spcAft>
                <a:spcPts val="18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Development and implementation of IT in the work of courts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238C0EDF-1EEE-4234-8030-5D1E2064D80B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3A6FE3A1-8D94-440C-9765-CE95784CF0FA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Operational Support-priority development area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urts should have well-functioning business support that enables effective work and contributes to high qua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9280" y="2636640"/>
            <a:ext cx="828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user-friendly and effective technical assistance (judicial and administrativ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 and develop 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mote the u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sure that systems are secur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F4876C3F-5696-4956-9A8A-E4C4F1D60258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1C0170FE-90F0-4B86-800B-80814CE78CAF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case and task management system for all cou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" y="2133360"/>
            <a:ext cx="828180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be used f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gistration of c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tribution of ca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cument production – (Word) templa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ooking of meeting / facilities / equipment - calendar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duce docu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tistics colle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ion between agenci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ording of audio and vide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284AEC59-2E1F-4404-84DF-3DBDAA0F4F7A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3834355B-79F4-4FF0-B0AE-8746D884A94C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ny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pport all employees in th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ud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w clerk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ret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h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lephone operato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eptioni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ministrators, etc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B49DDB68-CAEC-4626-99B1-DD295B77EB88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188595D5-F02F-4CB9-878D-BCC08269462D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Methods in the development of a computerized system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7786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support both current and future ways of working (”don’t add asphalt to the path”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9280" y="285264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development should begin with a general description of the courts' work processes (representatives from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11280" y="4365720"/>
            <a:ext cx="734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y to generalize and relate to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E5719C8D-F347-4AD7-AF1F-E2714B88A244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A9CD2A04-6312-4425-8BF8-EBA5E4542C32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ethods ….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lect a number of pilot courts for the various proces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7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9162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minars and workshops with mixed categories of staf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68360" y="278136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ment in sta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68360" y="3645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ployment in stag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0E6DA124-0DAF-4502-819A-9EFE4052631F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376FC512-3731-4F78-A7B8-B75597C408A4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anagement of Vera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ays of receiving chang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68360" y="206064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in the respectiv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68360" y="2637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ent to the …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321300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hould be recorded in the intranet - visible to all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95280" y="414972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68360" y="414972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rs can follow what happens to th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39640" y="4869000"/>
            <a:ext cx="822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way of prioritizing (reference group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0F3BC389-8D0B-49AE-900C-95DC86E8BE3A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DCD24A7A-6872-435D-9C02-24C593761FFB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How to see to that the system is used in every court in the most efficient way?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part of introducing the projec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llow-up vis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ssons-learned worksho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sul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etings with all court presid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of routine and skills invento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minars for various groups of us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urrent training for local teachers and systems administrator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20:23Z</dcterms:modified>
  <cp:revision>255</cp:revision>
  <dc:subject/>
  <dc:title>Sveriges Domstolar</dc:title>
</cp:coreProperties>
</file>