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4010-3D9D-42BD-BF13-6A4E515C0F7F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CAAE-5B89-47F7-8F33-FD8B4D00A0A6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228543E9-AEA9-412E-B638-2803A054B46E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1E585605-1A16-40BE-9890-A760098E05D9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804AF20E-EE98-4142-94CB-E986D13941EA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63293BDB-FA62-4106-B4D0-D31EA053970E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67636486-20CE-4E56-8F75-47B9AD0DECF9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E94C271F-389E-4384-8728-51750812BA71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100"/>
              </a:spcBef>
              <a:spcAft>
                <a:spcPts val="18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Development and implementation of IT in the work of courts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97729BA5-C348-4FB1-B2A7-74ACDFF4751E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B27ABB2B-7FF5-41A0-B867-1A1F5822990A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Operational Support-priority development area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urts should have well-functioning business support that enables effective work and contributes to high qua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9280" y="2636640"/>
            <a:ext cx="828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user-friendly and effective technical assistance (judicial and administrativ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 and develop 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mote the u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sure that systems are secur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0170853C-4E1D-47E5-A645-9895F9634DA4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4D3ED9BD-4011-44AC-9987-C45118CC9AEA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case and task management system for all cou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" y="2133360"/>
            <a:ext cx="828180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be used f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gistration of c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tribution of ca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cument production – (Word) templa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ooking of meeting / facilities / equipment - calendar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duce docu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tistics colle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ion between agenci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ording of audio and vide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BDB1A0FA-542F-4745-BC23-8ADD3D9A1446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F1BBAF7A-BDDF-4FA1-888D-080EE34EEFA3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ny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pport all employees in th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ud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w clerk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ret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h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lephone operato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eptioni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ministrators, etc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5D2DAAFA-9658-44D0-954C-721084EB89F9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1F48964B-1C7A-4061-A6A0-CB3DB6A5551B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Methods in the development of a computerized system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7786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support both current and future ways of working (”don’t add asphalt to the path”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9280" y="285264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development should begin with a general description of the courts' work processes (representatives from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11280" y="4365720"/>
            <a:ext cx="734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y to generalize and relate to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B0EFA971-5E5D-4BE3-9DDC-689472A102A2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EB116044-3706-4C92-8FF7-56193903C94F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ethods ….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lect a number of pilot courts for the various proces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7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9162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minars and workshops with mixed categories of staf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68360" y="278136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ment in sta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68360" y="3645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loyment in stag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1C97DE13-C00B-4A2F-9563-0533EB14DE21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767584B4-4240-460F-B6ED-DD87FFFBF325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anagement of Vera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ays of receiving chang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68360" y="206064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in the respectiv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68360" y="263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ent to the …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321300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hould be recorded in the intranet - visible to all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95280" y="414972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68360" y="414972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rs can follow what happens to th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39640" y="4869000"/>
            <a:ext cx="822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way of prioritizing (reference group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874768F6-F8AE-4988-B6C0-647F12CDDA0D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55E5127F-EE8C-4003-933D-A8C3437657F1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How to see to that the system is used in every court in the most efficient way?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part of introducing the proje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llow-up vis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ssons-learned worksho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sul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etings with all court presid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of routine and skills invento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minars for various groups of us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urrent training for local teachers and systems administrator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20:23Z</dcterms:modified>
  <cp:revision>255</cp:revision>
  <dc:subject/>
  <dc:title>Sveriges Domstolar</dc:title>
</cp:coreProperties>
</file>