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88A60FC-B956-48DF-8F8A-CFDA72D181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0E74204-BF68-4569-994A-B3A78BABEE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C930F71-CB64-4BCD-BA7A-CF56FB8EF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D956F0F-D27C-4E61-99E1-0C45D2428B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C6F0098-0397-454C-9E74-BBD4563C7F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669386F-B0A0-431B-ACBF-2DECF3914F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67B4A23-404B-4D51-9241-AE56BBC9C2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335E95F-F077-4116-85B3-1A96787F6F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190258D-BD4A-45C7-8D01-3447301669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7A4-48E4-4886-855D-13AD80D4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146-BBBF-4E11-ADBB-DF1713BC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29CCB-1EB7-4089-AEBA-0FAFBDF8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EF740-B9B1-4DA6-A0EC-D9182C24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DE018-C930-4CDE-92D8-28176FAC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C3BB0-D285-4BBD-B8E0-23BA8F8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6817F-B68C-415E-8976-6A8B110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1CD4B-6BE4-405B-A4BB-4277F23A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7C79A-C07A-4A53-BBC7-36AAA2C8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DCA11-58AB-49C5-A05D-6B3D29D1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33FC8-92F1-4571-8CE1-B5E004C2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588A1-4BA4-4B39-8ABB-706EEB28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56C6-193F-4030-91ED-C2A6FCDA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0B385-FC52-46FD-B6A5-B5F3ABE2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FFC10-6998-4590-936E-541A8BD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DA845-C762-441F-9721-40B6C7A9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F71A1-4F43-4419-AB3B-D7597589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A60BC-F4A2-4404-AA9C-8BBC361D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5E84A-0DCF-4C2F-9F04-640AEA6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AB845-D76F-47D2-962B-D8FA7BD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4D36C-F7DA-4DB5-B095-D077525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0A264-AE09-4388-BE00-8BA83861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3E917-174B-4257-951E-98C99BB3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2CA-5064-4254-AEA3-CBA8600C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E3B7A-2496-4878-89D5-F06AE5EE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165DA-CB2A-400A-89B3-010E2001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798D3-F841-4C24-BF4E-E6EC588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39E8F-3953-49C0-911B-B382F9D1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19F9-7510-4448-9448-4F7E423D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26321-D2BC-443B-859D-0F1ECC7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FBF50-6438-4D51-B350-ADAD4572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28911-2878-4E8A-9E68-56100A9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94A27-EF60-40A9-83A7-0772AD4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D26C-CB65-4DE8-A75D-C2AA0B3F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77C8-11B6-4F8A-8E29-83CA384C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A8671-BE36-4A93-9103-CD28F30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D626F-BCAF-40F9-9FA1-266BE81C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E2953-10E7-4EB2-B138-6C893F6D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3EEE-9959-48D4-9BB4-7B92ED72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D820D-7EE7-436D-8DFE-CC4DE2F7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CD941-D55D-4022-A9F6-7AB8239F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2AD41-D3DA-44AE-BF1A-88446B5E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D6447-E007-4BE4-B23B-2CA0D850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46ADA-E6A3-464A-813D-36C2CD9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10EB5-C884-42F7-BA0A-92666B1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8701-980C-4F50-8453-7F615C8C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9E6C0-6C71-46AF-A345-09871D6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88BDE-F56D-4D78-90BC-0A7A486A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82656-35C3-4470-AFE1-D84EDBD8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A7AF9-CC8C-4B09-890B-DC9581E8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2DDA5-52D2-4AEE-B745-E5524C81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A72D7-F294-4FA6-BC27-A56356D4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BD855-65BA-409F-8ABF-B163D02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13C50-9ADD-4075-B992-2CF17179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BB466-54D9-4336-939B-F0428DC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3DE17-D5B2-4790-800D-D4400922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CAF-3F7A-4F8E-9F37-7C124AA3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6CAE9-43F5-45F6-B28D-5E31E50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5AA50-B7CC-4BF4-AC8A-187DE30A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BA63E-28C5-4438-A025-9DACD500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10A71-A1D0-45A9-928D-C71F696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26E4D-ACCB-4DEE-A0E1-E301FFD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1C608-06C7-4432-BEF3-A1C16F12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E066E-A5A7-4011-B391-8B6DF133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5E5B-D2EB-4055-AAB9-08CAAD8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5FCA-673A-4EA5-BB81-1CA6A57B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A494-CF38-40ED-9CC1-88CF779E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2E6-4546-4798-8190-4BF1137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46F-0682-4642-A660-9346AC24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607F-39DB-4545-B2F9-0BFB80F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FEA1-039B-4D8C-8F6B-878550B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DE43-9E21-421A-9BD6-F1C96D16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6C7-CAA1-49D2-8645-C966ECBB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6526-B2E8-41C9-A80B-AEDA53C5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5543-5683-4C93-9EEA-9D7BD847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2F544-9899-49E8-A57D-1D07DFD0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ADEF-1C25-40B2-A81B-905C1BBF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82DD8-858D-4AF7-81D9-3F92E264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9FBD-C11F-4219-A582-3F6813F5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687-9475-49F3-8F0E-269DE044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58B76-9CE9-4957-8A38-37097004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91078-6566-4F36-86DF-DB80E41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F8C3-6937-4904-AB4E-8C29884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EA1C-EC5F-4A28-88CA-B23F6EF0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25F5-E3D8-4052-908C-34295E80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74AD-569F-4F38-8351-3FCFE798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FB2F-EDB8-4579-BC3F-B8F90C0A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018A5-4F5A-462B-8B13-595E1A62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C30D-3488-467F-9330-CE6B6E20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16D5-3868-43C0-BE19-6E252936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E45-00AD-4266-9A9C-613B5B45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5D2B2-B53A-438C-B2D4-1A7BE0CE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9B4F0-68E0-4A2E-BFDA-E53AEA46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26D40-21E7-4C7D-BB0A-B5AB49C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2BED-E22D-49AC-B836-17C40748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B84B3-5AA7-449F-B65B-752E24A2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F771-55D0-4F55-848C-E860EEA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6740-01CA-4183-8DAF-85A49B94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67C28-8665-4D44-BB50-EAC02E3D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9A31A-D3A3-4868-BCBC-3EA7FF97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7EB6-588C-494D-B15D-58066052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AE1-FF41-4F4D-BF14-8C0E8FBC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0DCA9-4720-4C32-9D5B-F508B01C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697A4-052B-4F9E-85CA-86A20C1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BB5E5-1A1A-4C51-B24E-E058C55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AD0E-875C-492A-93FC-8E6CDF99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AA0D-3E57-47C7-888A-EE0537E8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3A67-94FF-4917-8602-0F320056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1E379-5D68-4725-943D-58E19D3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1D062-EABD-4FAF-8CDC-638CACE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ED9A-CD64-4DFA-BAB6-617116BE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ECEA3-BA8E-492F-AC0F-ACBC1114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7B2-35F3-4E2A-985C-D7921E8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410A-0EEC-4DA7-ABAD-1366CA3C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4A4C-468D-4B64-ACCD-64D5FBFE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2393-EE9D-46F0-AECC-A19C9AB4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A2DFB-CCD6-4695-B712-60E3620E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4C387-C2E5-4C92-9D9C-A807EC3F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311F7-8E3F-4195-AAC2-1AD7E24F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92A2-B825-4320-9CB9-FE17F5AB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24E82-837C-47E7-88B9-C797996E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A898-7A5C-4218-A7E2-4DB1C8F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63902-2E50-4DE9-A8EF-9BB298C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41A-268F-4697-9D3A-D1FEE2EA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4DD54-BF2C-4E1E-9C94-2FA82F9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54914-EB75-4496-9827-2BBE52D5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49EC5-D8F9-4AF1-A8BA-63086465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4A7ED-FC0C-4957-8F99-D42BB858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E1471-BBC0-4E69-AADE-CF1ECC32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F49D-8D56-4F8D-9DF4-9F934C94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1C2C-353C-44D0-97B6-79A6F36B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0F034-3DDB-4351-A8FD-E56FA1B4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E29AF-708D-4779-B6CC-FC18A73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CEB6-B085-4F7C-9840-EF80639D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5B2-74DB-45B5-9A42-564BEDC3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2A6EE-0268-44C5-BF35-EC2A967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7A65-90A4-402C-A2F4-DEB398F8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DA74-EC95-4103-9DCD-83669A59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2323-FF1F-4BD6-8AF0-B406FA3B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30B30-B199-4080-AF40-265A1D29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DD696-C46E-4DF8-BEEF-BD1BEBBA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EF7B8-A54F-45C0-96AF-49D9033F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09690-6C51-4449-98B7-4917C2E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6A8E7-FDFC-478B-BF85-5B21121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EDC6-A51F-4913-BDDA-5B5391DD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40C-B680-4ECF-B2F1-9D4C2BD7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0E45E-67C6-4005-9A5F-5D8FEDD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53405-B299-473A-B236-09FE4DF9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C1B1C-DCB8-4E71-A649-6C1F95E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5423-87B3-4039-8289-A0C7364D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B9142-4BFB-4CB4-9DB7-19F69D2E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22830-D039-4757-A1FB-F9B0FB40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757B8-82B1-4B72-B5AE-B18D9E3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43BF5-DAEE-414E-B19F-C269CDEE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F5808-506E-414A-BA28-6394C4D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0CDE1-6E4D-4463-882A-C73507CE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C39E099-8D74-49B5-92AA-07B628C99FF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56CAE03-69D2-4864-91BA-8C3DF406A17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B112F41-FA92-4789-B599-97AD02270E43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C664FDC-4A84-42E1-9117-FD02D1787E8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C51D637-8158-4041-867E-F68C40252055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2A70FC8-E41C-4ABC-8468-77300C4EF98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26981AE-90D8-45C9-A554-549EB4CB5507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41D5772-68D3-4E88-9F8C-46648C60E82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CA89379-0B2A-42A0-BD83-48BA41F9674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DB0686B-B9E4-4294-A1B0-66DD71A5CCE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F951EAC-AB79-4334-90D1-252EF0A05506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7BAAF7D-6F18-4470-A8C4-B120208251C8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FD31522-BA27-4C17-A97F-AAE7EB016EAD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7CFD49B-D95C-414A-8BBB-67D98ACC00B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9C6A9EE-6B46-4812-A264-7BAD9730130B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D0D8254-D6A6-4FA9-A43B-B47B2A9B3F9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2DF7EDF-6A0C-4B51-87D5-30BB94225F7C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C12FCE9-02A7-40EE-BEA3-3E4BB11CA26F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FF1BB13-CE57-4BD3-88BD-833330E68285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FBA5D5D-016F-4959-869E-5EFAC16FC98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D8B52C6-0FD6-4660-B478-85EA031FB679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EADD69A-FC22-4C67-B835-12F58F2294C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B274ECF-B732-43B0-8B8A-4D228805D279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33CD731-5928-4C8C-98BB-5AA7D822206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EF44A32-D91A-44F0-8214-E6834F5E08A1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CB58559-491D-46DA-9A50-1547AC22E29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Схема 2" descr=""/>
          <p:cNvPicPr/>
          <p:nvPr/>
        </p:nvPicPr>
        <p:blipFill>
          <a:blip r:embed="rId1"/>
          <a:stretch/>
        </p:blipFill>
        <p:spPr>
          <a:xfrm>
            <a:off x="487440" y="1974960"/>
            <a:ext cx="90709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541" name="Группа 10"/>
          <p:cNvGrpSpPr/>
          <p:nvPr/>
        </p:nvGrpSpPr>
        <p:grpSpPr>
          <a:xfrm>
            <a:off x="235080" y="0"/>
            <a:ext cx="9434520" cy="1357200"/>
            <a:chOff x="235080" y="0"/>
            <a:chExt cx="9434520" cy="1357200"/>
          </a:xfrm>
        </p:grpSpPr>
        <p:pic>
          <p:nvPicPr>
            <p:cNvPr id="542" name="Picture 3" descr=""/>
            <p:cNvPicPr/>
            <p:nvPr/>
          </p:nvPicPr>
          <p:blipFill>
            <a:blip r:embed="rId2"/>
            <a:stretch/>
          </p:blipFill>
          <p:spPr>
            <a:xfrm>
              <a:off x="235080" y="0"/>
              <a:ext cx="94345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" descr="E:\UDC\Конференція суддів\Untitled-1.gif"/>
            <p:cNvPicPr/>
            <p:nvPr/>
          </p:nvPicPr>
          <p:blipFill>
            <a:blip r:embed="rId3"/>
            <a:stretch/>
          </p:blipFill>
          <p:spPr>
            <a:xfrm>
              <a:off x="665280" y="271440"/>
              <a:ext cx="539640" cy="74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4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5" name="Picture 3" descr=""/>
            <p:cNvPicPr/>
            <p:nvPr/>
          </p:nvPicPr>
          <p:blipFill>
            <a:blip r:embed="rId4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6" descr="E:\UDC\Конференція суддів\Untitled-1.gif"/>
            <p:cNvPicPr/>
            <p:nvPr/>
          </p:nvPicPr>
          <p:blipFill>
            <a:blip r:embed="rId5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47" name="Нижний колонтитул 3"/>
          <p:cNvSpPr/>
          <p:nvPr/>
        </p:nvSpPr>
        <p:spPr>
          <a:xfrm>
            <a:off x="1352520" y="360360"/>
            <a:ext cx="855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сударственная судебная администрация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897C7E9-B67B-46A0-8169-53910EA6C6A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652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54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чая группа по вопросам иннов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360" y="1248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ctr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андартов функционирования суда 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проект «Совершенный суд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(Азиатско-Тихоокеанская судебная конференция, Сингапур, октябрь 201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Внешняя и внутренняя оценка деятельности суд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карточки гражданского опроса – более 7 500 анк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ратегического плана развития судебной систем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витие информационных технолог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Создание концепции коммуникационной политик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79080" y="166320"/>
            <a:ext cx="8626680" cy="101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ратегического плана развития судебной системы Укра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Объект 2" descr=""/>
          <p:cNvPicPr/>
          <p:nvPr/>
        </p:nvPicPr>
        <p:blipFill>
          <a:blip r:embed="rId3"/>
          <a:stretch/>
        </p:blipFill>
        <p:spPr>
          <a:xfrm>
            <a:off x="633240" y="1536840"/>
            <a:ext cx="8669520" cy="477828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087CC4D-173D-4C95-B4B7-F3C8001DB5D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4"/>
          <a:stretch/>
        </p:blipFill>
        <p:spPr>
          <a:xfrm>
            <a:off x="452520" y="1434960"/>
            <a:ext cx="2916000" cy="194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"/>
          <p:cNvPicPr/>
          <p:nvPr/>
        </p:nvPicPr>
        <p:blipFill>
          <a:blip r:embed="rId5"/>
          <a:stretch/>
        </p:blipFill>
        <p:spPr>
          <a:xfrm>
            <a:off x="6535800" y="4373640"/>
            <a:ext cx="276840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3727440" y="2541600"/>
            <a:ext cx="2521080" cy="2901960"/>
          </a:xfrm>
          <a:prstGeom prst="rect">
            <a:avLst/>
          </a:prstGeom>
          <a:ln w="0">
            <a:noFill/>
          </a:ln>
        </p:spPr>
      </p:pic>
      <p:sp>
        <p:nvSpPr>
          <p:cNvPr id="666" name="Номер слайда 2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40E6534-91E8-4119-8DE7-B40D0457BA0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-3240" y="0"/>
            <a:ext cx="9907560" cy="1469880"/>
          </a:xfrm>
          <a:prstGeom prst="rect">
            <a:avLst/>
          </a:prstGeom>
          <a:ln w="0">
            <a:noFill/>
          </a:ln>
        </p:spPr>
      </p:pic>
      <p:sp>
        <p:nvSpPr>
          <p:cNvPr id="668" name="Заголовок 1"/>
          <p:cNvSpPr/>
          <p:nvPr/>
        </p:nvSpPr>
        <p:spPr>
          <a:xfrm>
            <a:off x="1352520" y="189000"/>
            <a:ext cx="85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дународная конференция, приуроченная к десятилетию Государственной судебной администрации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Прямоугольник 13"/>
          <p:cNvSpPr/>
          <p:nvPr/>
        </p:nvSpPr>
        <p:spPr>
          <a:xfrm>
            <a:off x="3511440" y="3409920"/>
            <a:ext cx="264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Прямоугольник 1" descr=""/>
          <p:cNvPicPr/>
          <p:nvPr/>
        </p:nvPicPr>
        <p:blipFill>
          <a:blip r:embed="rId3"/>
          <a:stretch/>
        </p:blipFill>
        <p:spPr>
          <a:xfrm>
            <a:off x="1262160" y="5589720"/>
            <a:ext cx="7381800" cy="58572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7" descr=""/>
          <p:cNvPicPr/>
          <p:nvPr/>
        </p:nvPicPr>
        <p:blipFill>
          <a:blip r:embed="rId4"/>
          <a:stretch/>
        </p:blipFill>
        <p:spPr>
          <a:xfrm>
            <a:off x="3730680" y="1700280"/>
            <a:ext cx="30542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51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8CB89AE-2CDD-42F5-A0BB-1CEC18E6AE9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У к р а и н а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2113200" y="2540160"/>
            <a:ext cx="3202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арта + інформація про держав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"/>
          <p:cNvSpPr/>
          <p:nvPr/>
        </p:nvSpPr>
        <p:spPr>
          <a:xfrm>
            <a:off x="5672160" y="1400040"/>
            <a:ext cx="410508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Население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45,6 миллиона (28-е в мире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Территория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45-я в мире (603 628 км²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5,7% территории Европ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Times New Roman"/>
              </a:rPr>
              <a:t>7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ей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8,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работников аппаратов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32,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дел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9,4 миллиона (201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0" y="1392120"/>
            <a:ext cx="546732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5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61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5734636-4140-4D3F-8C75-A981CC6F71D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стема судов общей юрисдикции в Укра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152280" y="152280"/>
            <a:ext cx="990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152280" y="1701720"/>
            <a:ext cx="9464760" cy="5257800"/>
            <a:chOff x="152280" y="1701720"/>
            <a:chExt cx="9464760" cy="5257800"/>
          </a:xfrm>
        </p:grpSpPr>
        <p:sp>
          <p:nvSpPr>
            <p:cNvPr id="566" name="AutoShape 37"/>
            <p:cNvSpPr/>
            <p:nvPr/>
          </p:nvSpPr>
          <p:spPr>
            <a:xfrm>
              <a:off x="152280" y="1701720"/>
              <a:ext cx="946476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36"/>
            <p:cNvSpPr/>
            <p:nvPr/>
          </p:nvSpPr>
          <p:spPr>
            <a:xfrm>
              <a:off x="3299040" y="1701720"/>
              <a:ext cx="2971080" cy="457560"/>
            </a:xfrm>
            <a:prstGeom prst="flowChartProcess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Верховный Cуд Украи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556200" y="2541960"/>
              <a:ext cx="2628360" cy="874080"/>
            </a:xfrm>
            <a:prstGeom prst="flowChartProcess">
              <a:avLst/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хозяйствен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4"/>
            <p:cNvSpPr/>
            <p:nvPr/>
          </p:nvSpPr>
          <p:spPr>
            <a:xfrm>
              <a:off x="556200" y="3759120"/>
              <a:ext cx="2628360" cy="685440"/>
            </a:xfrm>
            <a:prstGeom prst="flowChartProcess">
              <a:avLst/>
            </a:prstGeom>
            <a:solidFill>
              <a:srgbClr val="6fa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8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3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3"/>
            <p:cNvSpPr/>
            <p:nvPr/>
          </p:nvSpPr>
          <p:spPr>
            <a:xfrm>
              <a:off x="556200" y="4788000"/>
              <a:ext cx="2628360" cy="685440"/>
            </a:xfrm>
            <a:prstGeom prst="flowChartProcess">
              <a:avLst/>
            </a:prstGeom>
            <a:solidFill>
              <a:srgbClr val="8ab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7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32"/>
            <p:cNvSpPr/>
            <p:nvPr/>
          </p:nvSpPr>
          <p:spPr>
            <a:xfrm>
              <a:off x="6499440" y="2541960"/>
              <a:ext cx="2857680" cy="874080"/>
            </a:xfrm>
            <a:prstGeom prst="flowChartProcess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административ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31"/>
            <p:cNvSpPr/>
            <p:nvPr/>
          </p:nvSpPr>
          <p:spPr>
            <a:xfrm>
              <a:off x="6499440" y="3759120"/>
              <a:ext cx="2857680" cy="685440"/>
            </a:xfrm>
            <a:prstGeom prst="flowChartProcess">
              <a:avLst/>
            </a:prstGeom>
            <a:solidFill>
              <a:srgbClr val="3ea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9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30"/>
            <p:cNvSpPr/>
            <p:nvPr/>
          </p:nvSpPr>
          <p:spPr>
            <a:xfrm>
              <a:off x="6499440" y="4788000"/>
              <a:ext cx="2857680" cy="685440"/>
            </a:xfrm>
            <a:prstGeom prst="flowChartProcess">
              <a:avLst/>
            </a:prstGeom>
            <a:solidFill>
              <a:srgbClr val="5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руж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67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3527280" y="2541960"/>
              <a:ext cx="2629440" cy="858240"/>
            </a:xfrm>
            <a:prstGeom prst="flowChartProcess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специализированный суд Украины по рассмотрению гражданских и уголовных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де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8"/>
            <p:cNvSpPr/>
            <p:nvPr/>
          </p:nvSpPr>
          <p:spPr>
            <a:xfrm>
              <a:off x="3528360" y="3759120"/>
              <a:ext cx="2628360" cy="686160"/>
            </a:xfrm>
            <a:prstGeom prst="flowChartProcess">
              <a:avLst/>
            </a:prstGeom>
            <a:solidFill>
              <a:srgbClr val="95b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1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17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7"/>
            <p:cNvSpPr/>
            <p:nvPr/>
          </p:nvSpPr>
          <p:spPr>
            <a:xfrm>
              <a:off x="3527280" y="4788000"/>
              <a:ext cx="2628720" cy="685440"/>
            </a:xfrm>
            <a:prstGeom prst="flowChartProcess">
              <a:avLst/>
            </a:prstGeom>
            <a:solidFill>
              <a:srgbClr val="a7c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ст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666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8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AutoShape 12"/>
            <p:cNvCxnSpPr/>
            <p:nvPr/>
          </p:nvCxnSpPr>
          <p:spPr>
            <a:xfrm flipH="1">
              <a:off x="1809360" y="1929240"/>
              <a:ext cx="4680" cy="613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</a:ln>
          </p:spPr>
        </p:cxnSp>
        <p:cxnSp>
          <p:nvCxnSpPr>
            <p:cNvPr id="578" name="AutoShape 11"/>
            <p:cNvCxnSpPr/>
            <p:nvPr/>
          </p:nvCxnSpPr>
          <p:spPr>
            <a:xfrm flipV="1">
              <a:off x="1811160" y="3416040"/>
              <a:ext cx="1440" cy="3333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/>
            <p:nvPr/>
          </p:nvCxnSpPr>
          <p:spPr>
            <a:xfrm flipV="1">
              <a:off x="1811880" y="4452840"/>
              <a:ext cx="2160" cy="325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grpSp>
          <p:nvGrpSpPr>
            <p:cNvPr id="580" name=""/>
            <p:cNvGrpSpPr/>
            <p:nvPr/>
          </p:nvGrpSpPr>
          <p:grpSpPr>
            <a:xfrm>
              <a:off x="4787640" y="3415680"/>
              <a:ext cx="1800" cy="324000"/>
              <a:chOff x="4787640" y="3415680"/>
              <a:chExt cx="1800" cy="324000"/>
            </a:xfrm>
          </p:grpSpPr>
          <p:cxnSp>
            <p:nvCxnSpPr>
              <p:cNvPr id="581" name="AutoShape 9"/>
              <p:cNvCxnSpPr/>
              <p:nvPr/>
            </p:nvCxnSpPr>
            <p:spPr>
              <a:xfrm flipV="1">
                <a:off x="4787640" y="341568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2" name=""/>
              <p:cNvSpPr txBox="1"/>
              <p:nvPr/>
            </p:nvSpPr>
            <p:spPr>
              <a:xfrm rot="10800000">
                <a:off x="4787640" y="341568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788720" y="4443840"/>
              <a:ext cx="1080" cy="324000"/>
              <a:chOff x="4788720" y="4443840"/>
              <a:chExt cx="1080" cy="324000"/>
            </a:xfrm>
          </p:grpSpPr>
          <p:cxnSp>
            <p:nvCxnSpPr>
              <p:cNvPr id="584" name="AutoShape 8"/>
              <p:cNvCxnSpPr/>
              <p:nvPr/>
            </p:nvCxnSpPr>
            <p:spPr>
              <a:xfrm flipV="1">
                <a:off x="4789080" y="4443840"/>
                <a:ext cx="108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5" name=""/>
              <p:cNvSpPr txBox="1"/>
              <p:nvPr/>
            </p:nvSpPr>
            <p:spPr>
              <a:xfrm rot="10800000">
                <a:off x="4788720" y="444384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6" name="AutoShape 7"/>
            <p:cNvCxnSpPr/>
            <p:nvPr/>
          </p:nvCxnSpPr>
          <p:spPr>
            <a:xfrm flipV="1">
              <a:off x="7986600" y="34156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87" name="AutoShape 6"/>
            <p:cNvCxnSpPr/>
            <p:nvPr/>
          </p:nvCxnSpPr>
          <p:spPr>
            <a:xfrm flipV="1">
              <a:off x="7984800" y="44632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grpSp>
          <p:nvGrpSpPr>
            <p:cNvPr id="588" name=""/>
            <p:cNvGrpSpPr/>
            <p:nvPr/>
          </p:nvGrpSpPr>
          <p:grpSpPr>
            <a:xfrm>
              <a:off x="4789440" y="2158560"/>
              <a:ext cx="1800" cy="324000"/>
              <a:chOff x="4789440" y="2158560"/>
              <a:chExt cx="1800" cy="324000"/>
            </a:xfrm>
          </p:grpSpPr>
          <p:cxnSp>
            <p:nvCxnSpPr>
              <p:cNvPr id="589" name="AutoShape 5"/>
              <p:cNvCxnSpPr/>
              <p:nvPr/>
            </p:nvCxnSpPr>
            <p:spPr>
              <a:xfrm flipV="1">
                <a:off x="4789440" y="215856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90" name=""/>
              <p:cNvSpPr txBox="1"/>
              <p:nvPr/>
            </p:nvSpPr>
            <p:spPr>
              <a:xfrm rot="10800000">
                <a:off x="4789440" y="215856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1" name="AutoShape 4"/>
            <p:cNvCxnSpPr/>
            <p:nvPr/>
          </p:nvCxnSpPr>
          <p:spPr>
            <a:xfrm>
              <a:off x="1814040" y="1929600"/>
              <a:ext cx="1485360" cy="21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92" name="AutoShape 3"/>
            <p:cNvCxnSpPr/>
            <p:nvPr/>
          </p:nvCxnSpPr>
          <p:spPr>
            <a:xfrm flipH="1">
              <a:off x="6269760" y="1929600"/>
              <a:ext cx="1711080" cy="21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93" name="AutoShape 2"/>
            <p:cNvCxnSpPr/>
            <p:nvPr/>
          </p:nvCxnSpPr>
          <p:spPr>
            <a:xfrm flipH="1">
              <a:off x="7980480" y="1929960"/>
              <a:ext cx="7200" cy="612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</a:ln>
          </p:spPr>
        </p:cxn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D60F1F1-5955-4D27-B7FA-C5BABDE0A6A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597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9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проблемы в обеспечении деятельности су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95000" y="1846440"/>
            <a:ext cx="8932680" cy="403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Дефицит финансовых ресурс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заработная плата работников аппаратов су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текущие расходы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капит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ерегруженность судей и работников суд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около 120 дел в месяц на судью в 2011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uk-UA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1800" y="1599840"/>
            <a:ext cx="8640720" cy="4660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оустройстве и статусе судей" от 7 июля 2010 года</a:t>
            </a:r>
            <a:br>
              <a:rPr sz="2000"/>
            </a:br>
            <a:r>
              <a:rPr b="1" i="1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A8AA4A6-0D94-429D-A285-1091FC9B1BF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06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08" name="Прямоугольник 14"/>
          <p:cNvSpPr/>
          <p:nvPr/>
        </p:nvSpPr>
        <p:spPr>
          <a:xfrm>
            <a:off x="1306440" y="34920"/>
            <a:ext cx="8597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3"/>
          <p:cNvSpPr/>
          <p:nvPr/>
        </p:nvSpPr>
        <p:spPr>
          <a:xfrm>
            <a:off x="7101000" y="2709720"/>
            <a:ext cx="23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одержание каждого суда определяются в Законе о Государственном бюджете</a:t>
            </a:r>
            <a:r>
              <a:rPr b="1" lang="ru-RU" sz="1600" spc="-1" strike="noStrike">
                <a:solidFill>
                  <a:srgbClr val="4b4b4b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92520" y="5429160"/>
            <a:ext cx="43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удебную систему не могут сокращаться в течение текущего финансов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631800" y="270972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змер судейского вознаграждения закреплен на уровне зак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3048120" y="2882880"/>
            <a:ext cx="3760560" cy="20541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9"/>
          <p:cNvSpPr/>
          <p:nvPr/>
        </p:nvSpPr>
        <p:spPr>
          <a:xfrm>
            <a:off x="781200" y="409500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ctr">
              <a:buClr>
                <a:srgbClr val="7f7f7f"/>
              </a:buClr>
              <a:buFont typeface="Wingdings" charset="2"/>
              <a:buChar char="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012  году увеличилс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,4 раз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15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52160" y="0"/>
            <a:ext cx="8551800" cy="1270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4DCA255-3E3A-4629-9AB1-BEF94C6F5B3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Объект 14" descr=""/>
          <p:cNvPicPr/>
          <p:nvPr/>
        </p:nvPicPr>
        <p:blipFill>
          <a:blip r:embed="rId3"/>
          <a:stretch/>
        </p:blipFill>
        <p:spPr>
          <a:xfrm>
            <a:off x="4230720" y="1951200"/>
            <a:ext cx="4376880" cy="443052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15"/>
          <p:cNvSpPr/>
          <p:nvPr/>
        </p:nvSpPr>
        <p:spPr>
          <a:xfrm>
            <a:off x="1352520" y="141120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ебном сборе" от 8 июля 2011 года</a:t>
            </a:r>
            <a:br>
              <a:rPr sz="2000"/>
            </a:b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Диаграмма 17" descr=""/>
          <p:cNvPicPr/>
          <p:nvPr/>
        </p:nvPicPr>
        <p:blipFill>
          <a:blip r:embed="rId4"/>
          <a:stretch/>
        </p:blipFill>
        <p:spPr>
          <a:xfrm>
            <a:off x="725400" y="2227320"/>
            <a:ext cx="4565880" cy="247788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16"/>
          <p:cNvSpPr/>
          <p:nvPr/>
        </p:nvSpPr>
        <p:spPr>
          <a:xfrm>
            <a:off x="1135080" y="4581360"/>
            <a:ext cx="403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Размер бюджета судебной власти увеличился в 1,5 раза и составляет в 2012 году около 500 млн.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Группа 10"/>
          <p:cNvGrpSpPr/>
          <p:nvPr/>
        </p:nvGrpSpPr>
        <p:grpSpPr>
          <a:xfrm>
            <a:off x="3240" y="0"/>
            <a:ext cx="9905760" cy="1428840"/>
            <a:chOff x="3240" y="0"/>
            <a:chExt cx="9905760" cy="1428840"/>
          </a:xfrm>
        </p:grpSpPr>
        <p:pic>
          <p:nvPicPr>
            <p:cNvPr id="624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3240" y="0"/>
              <a:ext cx="9905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540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52160" y="135000"/>
            <a:ext cx="8551800" cy="1010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Гарантии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финансирования судебной системы нуждаются в усиле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Объект 3" descr=""/>
          <p:cNvPicPr/>
          <p:nvPr/>
        </p:nvPicPr>
        <p:blipFill>
          <a:blip r:embed="rId3"/>
          <a:stretch/>
        </p:blipFill>
        <p:spPr>
          <a:xfrm>
            <a:off x="457200" y="1414440"/>
            <a:ext cx="8997840" cy="4827600"/>
          </a:xfrm>
          <a:prstGeom prst="rect">
            <a:avLst/>
          </a:prstGeom>
          <a:ln w="0">
            <a:noFill/>
          </a:ln>
        </p:spPr>
      </p:pic>
      <p:sp>
        <p:nvSpPr>
          <p:cNvPr id="62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080D23E-61B9-431E-BED4-069DE86531F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704880" y="204480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</a:rPr>
              <a:t>Разработаны 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Объект 14" descr=""/>
          <p:cNvPicPr/>
          <p:nvPr/>
        </p:nvPicPr>
        <p:blipFill>
          <a:blip r:embed="rId1"/>
          <a:stretch/>
        </p:blipFill>
        <p:spPr>
          <a:xfrm>
            <a:off x="-1023840" y="1590840"/>
            <a:ext cx="12026880" cy="3865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rcRect l="15971" t="0" r="43692" b="0"/>
          <a:stretch/>
        </p:blipFill>
        <p:spPr>
          <a:xfrm>
            <a:off x="7327800" y="1701720"/>
            <a:ext cx="21970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32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33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" descr="E:\UDC\Конференція суддів\Untitled-1.gif"/>
            <p:cNvPicPr/>
            <p:nvPr/>
          </p:nvPicPr>
          <p:blipFill>
            <a:blip r:embed="rId4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9080" y="404280"/>
            <a:ext cx="8129520" cy="40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шаг в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3A314F4-71CB-469D-88CA-2D41F61215B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11"/>
          <p:cNvSpPr/>
          <p:nvPr/>
        </p:nvSpPr>
        <p:spPr>
          <a:xfrm>
            <a:off x="200160" y="2062080"/>
            <a:ext cx="494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5"/>
          <a:stretch/>
        </p:blipFill>
        <p:spPr>
          <a:xfrm>
            <a:off x="415800" y="1701720"/>
            <a:ext cx="2090880" cy="3603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6"/>
          <a:stretch/>
        </p:blipFill>
        <p:spPr>
          <a:xfrm>
            <a:off x="1496880" y="5580000"/>
            <a:ext cx="724860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41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87400" y="179280"/>
            <a:ext cx="8129520" cy="712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путь к сокращению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69E1262-AC4B-46FF-A168-25F93F6E401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Объект 14" descr=""/>
          <p:cNvPicPr/>
          <p:nvPr/>
        </p:nvPicPr>
        <p:blipFill>
          <a:blip r:embed="rId3"/>
          <a:stretch/>
        </p:blipFill>
        <p:spPr>
          <a:xfrm>
            <a:off x="493560" y="1590840"/>
            <a:ext cx="8918640" cy="336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4"/>
          <a:stretch/>
        </p:blipFill>
        <p:spPr>
          <a:xfrm>
            <a:off x="3765600" y="5014800"/>
            <a:ext cx="2374920" cy="1690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5"/>
          <a:stretch/>
        </p:blipFill>
        <p:spPr>
          <a:xfrm>
            <a:off x="631800" y="1989000"/>
            <a:ext cx="2594160" cy="280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6"/>
          <a:stretch/>
        </p:blipFill>
        <p:spPr>
          <a:xfrm>
            <a:off x="6680160" y="1989000"/>
            <a:ext cx="2594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3:31Z</dcterms:created>
  <dc:creator/>
  <dc:description/>
  <dc:language>en-US</dc:language>
  <cp:lastModifiedBy/>
  <dcterms:modified xsi:type="dcterms:W3CDTF">2013-07-30T08:49:15Z</dcterms:modified>
  <cp:revision>1</cp:revision>
  <dc:subject/>
  <dc:title/>
</cp:coreProperties>
</file>