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2A1A-84F3-4A1B-895C-DEE6449E00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2DDE-D589-46D2-A347-17312D2E0DBD}"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orporate Liability for commit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st frequently used sanction – fine(criminal or non-criminal)</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Other sanction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exclusion from contracting with the Government (for example public procurement, aid procurement and export credit financing);</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forfeiture, confiscation, restitution, closing down of legal entiti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Non-monetary sanctions available in some jurisdiction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withdrawal of certain advantag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spension of certain right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hibition of certain activiti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ublication of the judgment</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appointment of a trustee, </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rect regulation of corporate structures</a:t>
            </a:r>
            <a:endParaRPr b="0" lang="en-US" sz="2400" spc="-1" strike="noStrike">
              <a:solidFill>
                <a:srgbClr val="2d2015"/>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Judicial cooperation</a:t>
            </a:r>
            <a:endParaRPr b="0" lang="en-US" sz="2000" spc="-1" strike="noStrike">
              <a:solidFill>
                <a:srgbClr val="2d2015"/>
              </a:solidFill>
              <a:latin typeface="Arial"/>
            </a:endParaRPr>
          </a:p>
        </p:txBody>
      </p:sp>
      <p:sp>
        <p:nvSpPr>
          <p:cNvPr id="11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LA (mutual legal assistance)I to be afforded to</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fullest extent possible under relevant laws, treaties, agreements and arrangements of the requested State party, in cases where a legal entity is subject to 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riminal, civil or administrative lia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ooperation for purposes of confiscation (freezing, seizure, asset recovery)</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EU relevant policies</a:t>
            </a:r>
            <a:endParaRPr b="0" lang="en-US" sz="2000" spc="-1" strike="noStrike">
              <a:solidFill>
                <a:srgbClr val="2d2015"/>
              </a:solidFill>
              <a:latin typeface="Arial"/>
            </a:endParaRPr>
          </a:p>
        </p:txBody>
      </p:sp>
      <p:sp>
        <p:nvSpPr>
          <p:cNvPr id="11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nitoring implementation of EU instruments by MS and promoting ratification of international instrument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Dialogue on Rule of Law and track record of implementation and irreversibility of anti-corruption reforms (candidate countries, ENP)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pport for strengthening good governance and democratisation granted by the EU </a:t>
            </a:r>
            <a:r>
              <a:rPr b="1" lang="en-US" sz="2400" spc="-1" strike="noStrike">
                <a:solidFill>
                  <a:srgbClr val="2d2015"/>
                </a:solidFill>
                <a:latin typeface="Arial"/>
              </a:rPr>
              <a:t>as </a:t>
            </a:r>
            <a:r>
              <a:rPr b="0" lang="en-US" sz="2400" spc="-1" strike="noStrike">
                <a:solidFill>
                  <a:srgbClr val="2d2015"/>
                </a:solidFill>
                <a:latin typeface="Arial"/>
              </a:rPr>
              <a:t>part of cooperation and development policy including anti-corruption polic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Black"/>
              </a:rPr>
              <a:t>	</a:t>
            </a:r>
            <a:r>
              <a:rPr b="0" lang="en-GB" sz="2000" spc="-1" strike="noStrike">
                <a:solidFill>
                  <a:srgbClr val="2d2015"/>
                </a:solidFill>
                <a:latin typeface="Arial Black"/>
              </a:rPr>
              <a:t>gualtiero.michelini@giustizia.it</a:t>
            </a:r>
            <a:endParaRPr b="0" lang="en-US" sz="20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24"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25"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By undermining democratic institutions, curbing economic growth and multiplying the spread of criminal activities, corruption threatens international security and stability.</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ea typeface="ＭＳ Ｐゴシック"/>
              </a:rPr>
              <a:t>Awareness of the international community and “season” of international conventions against corruption</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Main international instruments against corruption</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UNCAC (United Nations Convention against corruption) – 2003 (UNTOC 2000)</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Council of Europe Criminal Law Convention and Civil Law Convention on corruption – 1999</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r>
              <a:rPr b="0" lang="en-GB" sz="2400" spc="-1" strike="noStrike">
                <a:solidFill>
                  <a:srgbClr val="2d2015"/>
                </a:solidFill>
                <a:latin typeface="Arial"/>
              </a:rPr>
              <a:t>(monitoring mechanism GRECO)</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OECD Anti- Bribery Convention 1997 (international business transactions)</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EU PFI Convention and protocol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2d2015"/>
                </a:solidFill>
                <a:latin typeface="Arial"/>
              </a:rPr>
              <a:t>Article 26 UNCAC “Liability of legal person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1. Each State Party shall adopt such measures as may be necessary, consistent with its legal principles, to establish the liability of legal persons for participation in the offences established in accordance with this </a:t>
            </a:r>
            <a:r>
              <a:rPr b="0" lang="it-IT" sz="1600" spc="-1" strike="noStrike">
                <a:solidFill>
                  <a:srgbClr val="2d2015"/>
                </a:solidFill>
                <a:latin typeface="Arial"/>
              </a:rPr>
              <a:t>Convention.</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2. Subject to the legal principles of the State Party, the liability of legal persons may be criminal, civil or administrative.</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3. Such liability shall be without prejudice to the criminal liability of the natural persons who have committed the offence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a:t>
            </a:r>
            <a:r>
              <a:rPr b="0" lang="en-US" sz="1600" spc="-1" strike="noStrike">
                <a:solidFill>
                  <a:srgbClr val="2d2015"/>
                </a:solidFill>
                <a:latin typeface="Arial"/>
              </a:rPr>
              <a:t>4. Each State Party shall, in particular, ensure that legal persons held liable in accordance with this article are subject to effective, proportionate and dissuasive criminal or non-criminal sanctions, including monetary </a:t>
            </a:r>
            <a:r>
              <a:rPr b="0" lang="it-IT" sz="1600" spc="-1" strike="noStrike">
                <a:solidFill>
                  <a:srgbClr val="2d2015"/>
                </a:solidFill>
                <a:latin typeface="Arial"/>
              </a:rPr>
              <a:t>sanctions.</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d2015"/>
                </a:solidFill>
                <a:latin typeface="Arial"/>
              </a:rPr>
              <a:t>Article 18 – Corporate liability COE CETS 173 (Ceriminal Law Convention on Corruption)</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1. Each Party shall adopt such legislative and other measures as may be necessary to ensure that legal persons can be held liable for the criminal offences of active bribery, trading in influence and money laundering established in accordance with this Convention, committed for their benefit by any natural person, acting either individually or as part of an organ of the legal person, who has a leading position within the legal person, based on:– a power of representation of the legal person; or– an authority to take decisions on behalf of the legal person; or – an authority to exercise control within the legal person; as well as for involvement of such a natural person as accessory or instigator in the above-mentioned offences.</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r>
              <a:rPr b="0" lang="fr-FR" sz="1200" spc="-1" strike="noStrike">
                <a:solidFill>
                  <a:srgbClr val="2d2015"/>
                </a:solidFill>
                <a:latin typeface="Arial"/>
              </a:rPr>
              <a:t>2 Apart from the cases already provided for in paragraph 1, each Party shall take the necessary measures to ensure that a legal person can be held liable where the lack of supervision or control by a natural person referred to in paragraph 1 has made possible the commission of the criminal offences mentioned in paragraph 1 for the benefit of that legal person by a natural person under its authority.</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3 Liability of a legal person under paragraphs 1 and 2 shall not exclude criminal proceedings against natural persons who are perpetrators, instigators of, or accessories to, the criminal offences mentioned in paragraph 1.</a:t>
            </a:r>
            <a:endParaRPr b="0" lang="en-US" sz="1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ba1e2"/>
                </a:solidFill>
                <a:latin typeface="Arial"/>
                <a:ea typeface="ＭＳ Ｐゴシック"/>
              </a:rPr>
              <a:t>Background</a:t>
            </a:r>
            <a:endParaRPr b="0" lang="en-US" sz="2000" spc="-1" strike="noStrike">
              <a:solidFill>
                <a:srgbClr val="2d2015"/>
              </a:solidFill>
              <a:latin typeface="Arial"/>
            </a:endParaRPr>
          </a:p>
        </p:txBody>
      </p:sp>
      <p:sp>
        <p:nvSpPr>
          <p:cNvPr id="8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raditional interpretation of the principle </a:t>
            </a:r>
            <a:r>
              <a:rPr b="0" i="1" lang="en-GB" sz="2000" spc="-1" strike="noStrike">
                <a:solidFill>
                  <a:srgbClr val="2d2015"/>
                </a:solidFill>
                <a:latin typeface="Arial"/>
              </a:rPr>
              <a:t>societas delinquere non potes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titutional problems – principle of personality of crimin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BUT</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Juridical personality implies juridic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General recognition at international level of corporate liability, which may also be criminal in accordance with principles of criminal law, apart from the need of adaptation of sanction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Arial"/>
              </a:rPr>
              <a:t> </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ssues at stake</a:t>
            </a:r>
            <a:endParaRPr b="0" lang="en-US" sz="2000" spc="-1" strike="noStrike">
              <a:solidFill>
                <a:srgbClr val="2d2015"/>
              </a:solidFill>
              <a:latin typeface="Arial"/>
            </a:endParaRPr>
          </a:p>
        </p:txBody>
      </p:sp>
      <p:sp>
        <p:nvSpPr>
          <p:cNvPr id="8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erious and sophisticated crime committed by, through or under the cover of legal entities, such as companies, corporations or charitable organizations. </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Complex corporate structures can effectively hide the true ownership, clients or specific transactions related to serious crimes and corruption</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lexity of decision-making processes leading to corruption </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Different approaches</a:t>
            </a:r>
            <a:endParaRPr b="0" lang="en-US" sz="2000" spc="-1" strike="noStrike">
              <a:solidFill>
                <a:srgbClr val="2d2015"/>
              </a:solidFill>
              <a:latin typeface="Arial"/>
            </a:endParaRPr>
          </a:p>
        </p:txBody>
      </p:sp>
      <p:sp>
        <p:nvSpPr>
          <p:cNvPr id="9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riminal, civil, or administrative responsi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fferent approaches related to</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ttribution of intent and guilt</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determination of the degree of collective culpability</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type of proof required for the imposition of penalties on corporate entit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ppropriate sanction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a:t>
            </a:r>
            <a:endParaRPr b="0" lang="en-US" sz="2000" spc="-1" strike="noStrike">
              <a:solidFill>
                <a:srgbClr val="2d2015"/>
              </a:solidFill>
              <a:latin typeface="Arial"/>
            </a:endParaRPr>
          </a:p>
        </p:txBody>
      </p:sp>
      <p:sp>
        <p:nvSpPr>
          <p:cNvPr id="9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Establishment of corporate liability</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Parallel but independent from liability of natural pers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Sanctions must be effective, proportionate and dissuasive</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michelini</cp:lastModifiedBy>
  <cp:lastPrinted>2008-06-02T19:37:29Z</cp:lastPrinted>
  <dcterms:modified xsi:type="dcterms:W3CDTF">2013-01-30T22:37:54Z</dcterms:modified>
  <cp:revision>316</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