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7A04-191D-49A7-A859-2C740500DE35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2FD9-7E51-4E18-9F70-E2449818B8D9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bild - välkom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8000" y="6524280"/>
            <a:ext cx="9036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  <a:defRPr b="0" lang="sv-SE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A215D38C-8874-405F-9068-8C632EB1FF85}" type="slidenum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 SVERIGES DOMSTOLAR    </a:t>
            </a:r>
            <a:fld id="{2666ECE8-E44F-4D85-ABBA-2BAE30CBFF98}" type="datetime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" name="Picture 12" descr="sd_color_b1"/>
          <p:cNvPicPr/>
          <p:nvPr/>
        </p:nvPicPr>
        <p:blipFill>
          <a:blip r:embed="rId2"/>
          <a:stretch/>
        </p:blipFill>
        <p:spPr>
          <a:xfrm>
            <a:off x="3203640" y="4653000"/>
            <a:ext cx="2808360" cy="163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108000" y="6524280"/>
            <a:ext cx="9036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  <a:defRPr b="0" lang="sv-SE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C89F12C1-D072-4168-AF3B-4558280F652B}" type="slidenum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 SVERIGES DOMSTOLAR    </a:t>
            </a:r>
            <a:fld id="{3FE5A5F7-8C2E-41F7-9A5F-D1258404ED87}" type="datetime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30B26D0D-07AC-4E3A-B03A-FE6B02CF6807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8B84A8A2-2440-404F-85AD-424975DC764D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499"/>
              </a:lnSpc>
              <a:spcBef>
                <a:spcPts val="2100"/>
              </a:spcBef>
              <a:spcAft>
                <a:spcPts val="18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Garamond"/>
              </a:rPr>
              <a:t>Public relations-Public Trust and Confidence in the Courts</a:t>
            </a: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92" name="Picture 19" descr=""/>
          <p:cNvPicPr/>
          <p:nvPr/>
        </p:nvPicPr>
        <p:blipFill>
          <a:blip r:embed="rId1"/>
          <a:stretch/>
        </p:blipFill>
        <p:spPr>
          <a:xfrm>
            <a:off x="163440" y="2349360"/>
            <a:ext cx="898056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DC28DC23-BA2A-44B4-8320-293115690A6C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603111BF-A43F-49EB-9EC1-E2DECB30AB3B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Important factors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e accessibility of the courts and the court staff for parties and people giving evidence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e courts’ reception of parties and people giving evidence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Processing times at the court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e transparency of the courts’ decision-making processe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e formulation of judgements and decision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e way in which activities of the courts are portrayed by the media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e knowledge of the general public about what goes on in the court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The conduct of judge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C0A718F4-FCB6-46E5-ACCA-EBBBE460E663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92CA839C-B182-4798-BBA7-ABE5E9CA5AF4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Garamond"/>
              </a:rPr>
              <a:t>Measures for improving the reception of parties and people giving evidence 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Guidelines for what parties and people giving evidence have reason to expect and the demands that can be placed on the staff of courts with regard to the person-to-person reception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All courts should offer the same accessibility with regard to telephone and office hours and contacts by email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Information to parties and people giving evidence about what goes on in the court and what is expected of them available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e reception of people appearing at court is to improve and in the larger courts, there should be special service staff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All the staff at courts are to be trained with regard to reception issue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E7293330-4A5B-4C67-8DE3-ED9B64D6E317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80931ACA-260A-4EC2-80EA-DB1A58CDDCE0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Garamond"/>
              </a:rPr>
              <a:t>Measures to improve the formulation of judgements and decisions 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Regulations on the formal and graphic design of judgements and decision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Recommendations for how judgements and decisions should be formulated with regard to readability and judicial argumentation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All court lawyers are to be trained in issues concerning the formulation of judgements and decisions.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00F2102B-D651-4528-9424-5F97B453DEAF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74EFF192-DA8B-4C1C-9D05-FF4D25C0A9DA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Garamond"/>
              </a:rPr>
              <a:t>Vigorous measures to improve the courts’ contacts with the media 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Judges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are primarily to manage contacts with the media concerning the cases and matters for which they are responsible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Heads of courts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are to contribute to creating an atmosphere of openness at courts and a willingness to provide information to the media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Media judges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are to be available at the courts where there is a need for such a judge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A media group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of media judges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acting as a body for the regular exchange of experience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The National Courts Administration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is to have overall responsibility for training judges in media issues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A Press Service at the National Courts Administration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is to act as a starting point for journalists and others who have questions about activities in the court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A Spokesperson for the Swedish courts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who can represent the courts and provide information about the activities of the court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46979D3B-9A02-43E3-AF92-42C518E2CCE0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42546FC0-125F-456B-B259-B0B96565F5A9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Garamond"/>
              </a:rPr>
              <a:t>Other measures to strengthen trust in the courts</a:t>
            </a:r>
            <a:r>
              <a:rPr b="1" lang="sv-SE" sz="28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Better websit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Parties access to information on their very own cas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Electronic case managem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Routines to cover the information on blogs, communit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Greater opennes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Visits of school class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Open house visits to the cou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3:19:05Z</dcterms:created>
  <dc:creator>camista</dc:creator>
  <dc:description/>
  <dc:language>en-US</dc:language>
  <cp:lastModifiedBy>lipovyi</cp:lastModifiedBy>
  <dcterms:modified xsi:type="dcterms:W3CDTF">2013-08-01T09:23:28Z</dcterms:modified>
  <cp:revision>253</cp:revision>
  <dc:subject/>
  <dc:title>Sveriges Domstolar</dc:title>
</cp:coreProperties>
</file>