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99C7-DE66-4A04-882E-13A756253D9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B68B-B431-42D5-8E1F-A7D876E6D48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E61840A-573C-4301-BADF-F66B35AEB35D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D9B98D55-1DF9-4AEE-B217-0157D55BE5CE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EA4E2B9-1618-4A23-8798-E1D4FAD825CA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FE6EF162-FE69-44E1-B260-8B36FEC3DD14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6AFC86EB-AE81-459C-87AC-EB5F9EE3A21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B33C283-B120-4DEE-9CCE-B039FF0BFA19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Public relations-Public Trust and Confidence in the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F6AD310-4283-434F-B0DE-75BE1931BBF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9FC70E2-B690-4BD7-BC9C-93136EC8A95F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Important factors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accessibility of the courts and the court staff for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courts’ reception of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Processing times at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transparency of the courts’ decision-making process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formulation of judgements and decis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way in which activities of the courts are portrayed by the med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knowledge of the general public about what goes on in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The conduct of judg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A9B1C47-0045-4DA4-AD39-92788D8ADF75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438193E-E10A-4FED-A253-474952CCBA6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for improving the reception of parties and people giving evidence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uidelines for what parties and people giving evidence have reason to expect and the demands that can be placed on the staff of courts with regard to the person-to-person recep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s should offer the same accessibility with regard to telephone and office hours and contacts by email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formation to parties and people giving evidence about what goes on in the court and what is expected of them avail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reception of people appearing at court is to improve and in the larger courts, there should be special service staff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the staff at courts are to be trained with regard to reception issu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D71D8ED-C2BE-48D7-9857-F6F4A33D53E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AB94C331-706C-422C-945F-FBDCCBB64EA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to improve the formulation of judgements and decisions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gulations on the formal and graphic design of judgements and decis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ommendations for how judgements and decisions should be formulated with regard to readability and judicial argument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 lawyers are to be trained in issues concerning the formulation of judgements and decisions.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8CFBD46-75FE-47D4-81A9-8AFFD225F590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606C81FC-BC49-494F-9106-6B7970207A89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Vigorous measures to improve the courts’ contacts with the media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primarily to manage contacts with the media concerning the cases and matters for which they are responsibl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Heads of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contribute to creating an atmosphere of openness at courts and a willingness to provide information to the media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be available at the courts where there is a need for such a judg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media group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of 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cting as a body for the regular exchange of experienc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have overall responsibility for training judges in media issue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Press Service at 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act as a starting point for journalists and others who have questions about activities in the cou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Spokesperson for the Swedish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who can represent the courts and provide information about the activities of the court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D2A954AE-46A9-4410-AA4F-A0826DEA6F42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65EA323-2A8E-4146-BE25-834AF29E3303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Other measures to strengthen trust in the courts</a:t>
            </a:r>
            <a:r>
              <a:rPr b="1" lang="sv-SE" sz="2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etter websi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ties access to information on their very own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lectronic case manag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outines to cover the information on blogs, commun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reater opennes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Visits of school cla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Open house visits to the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3:28Z</dcterms:modified>
  <cp:revision>253</cp:revision>
  <dc:subject/>
  <dc:title>Sveriges Domstolar</dc:title>
</cp:coreProperties>
</file>