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14F90-AE3E-45F8-982B-515F7E6AC34C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AD099-0218-4055-8C37-0C0C07658C24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364B6-AD77-4544-8B90-98D59DE7AFD8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(standards that will always be met on all occasion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5A24C-1FD6-4D81-99CE-6A209AFDEDBF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A6281-C6B6-4D9B-BD77-29D2DD554820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8C652-DE0F-4B88-99C8-E1FFF0A69676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E711C-8A45-4EC3-97CC-A08983547AA2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It is important for all client contact staff to be trained in receiving feedback, including assis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clients to articulate their concerns as well as processing and actioning that feedback. Sta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training should also cover dealing with members of the public, especially those who are like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to be distress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C2572-A5D7-4A0C-BAF7-0A43948E61AB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009C9-FD2B-4AD3-A7EB-BFB49E25DE76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The service charter is not intended to confer legally enforceable rights on clients! Please consider having your charter reviewed by a legal expert to ensure that the wording used does not inadvertently give rise to legal liabi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3BC01-BD50-4ECF-AE5F-A14D39B3E00C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1F0B4-6D2F-4B01-9A26-B69356BB7000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26945-8490-4DA1-8097-13A9E96926C1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AD4AC-824C-44F1-B4E6-3EB1D6946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D584F-3DB0-45B0-BA67-2271577CF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5B3C9-D5F6-4575-B273-71DFD1B1B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CACC5-A7B7-46D5-89F0-99F4693BE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5D3B9-8418-40AD-AE4E-955AD25D3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B5607-1D84-4DBA-ACDA-997131358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B16E1-B449-452C-AE4A-C6F93E7E1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25752-0EDE-4C57-8410-3EA487BFF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50E0C-D06E-42CA-B994-DBCA72775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32D71-7168-4FF0-94C9-AB85B5A88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6B122-513A-4FCD-92F2-8BEB3B4E9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83087-BC98-41D2-8345-6640897B2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DBF7A-C163-4968-80F7-61F06271B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76B18-9BED-4B74-B783-F6C58EA8E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FB795-5626-4D55-A086-A4444D44E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63326-6B02-4C1A-BEAE-38F0AC395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324C1-916D-41EF-B3E1-8DA728F1B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90E63-7900-45C6-9B3F-004226C9C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EBEC6-7CA2-465B-AAF2-9723F1104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BD3E7-BDDB-4879-AF68-6F2079A67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FAE40-32E6-46AE-BC5D-776A67AEA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DF90F-A09E-421B-A429-8EF4BBF08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A197F-2516-447D-96D2-5E19DD3CD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54CDF-B7C8-40A8-BD90-95CFAAA56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c1bcf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a6f8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3C119-1E14-4C3B-8C33-3CEA11F576B2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c1bcf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a6f8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01E10-847A-47B3-ACEA-D227F6EDB9BE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26920" y="836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5400" spc="-1" strike="noStrike">
                <a:solidFill>
                  <a:srgbClr val="000000"/>
                </a:solidFill>
                <a:latin typeface="Arial"/>
              </a:rPr>
              <a:t>Service Charter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28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[Nome del progetto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[Nome del relatore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3) How we do i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7920000" cy="432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26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Tahoma"/>
              </a:rPr>
              <a:t>Guaranteed standard ≠ Target standard (your promises ≠ your objectives)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26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Tahoma"/>
              </a:rPr>
              <a:t>Two sets of Standards: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26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Tahoma"/>
              </a:rPr>
              <a:t>the quality of the relationship with the client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26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Tahoma"/>
              </a:rPr>
              <a:t>the quality of the services provided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26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Tahoma"/>
              </a:rPr>
              <a:t>The quality of the delivery 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3a) Standards of relationshi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explain clearly what the client needs to do to achieve a result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explain what are their rights and responsibi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guarantee staff manner and interpersonal skills: friendliness, helpfulness, respect, sensitivity to the clients’ individual needs, identifying themselves, explaining, listening carefully to the cli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Improve your standards of relationship!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6" descr="FFJ"/>
          <p:cNvPicPr/>
          <p:nvPr/>
        </p:nvPicPr>
        <p:blipFill>
          <a:blip r:embed="rId1"/>
          <a:stretch/>
        </p:blipFill>
        <p:spPr>
          <a:xfrm>
            <a:off x="1619280" y="1614600"/>
            <a:ext cx="6048360" cy="46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3b) Quality of Services (Qo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95280" y="1341360"/>
            <a:ext cx="8424720" cy="511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Basically, a service is an answer to a ques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Helpful (e.g. prompt referrals, availability of help in emergencies)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Clear (e.g. of letters, forms and publications, processes and other product inform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Understandable (by people with disabilities)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Accurate (e.g. of advice, information, payments or filled order)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Complete an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Appropriate (e.g. fit to clients’ needs and circumstances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3d) Quality of delivery (QoD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continuity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equal access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affordable costs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social, cultural and environmental acceptability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3c) When we do i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68360" y="1483920"/>
            <a:ext cx="760104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Tahoma"/>
              </a:rPr>
              <a:t>The timeliness of service delivery.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Tahoma"/>
              </a:rPr>
              <a:t>Define how much time a client will wait for a service to be delivered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Tahoma"/>
              </a:rPr>
              <a:t>Quantitative standard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responding to client contacts (e.g. letters, emails, phone messages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processing (e.g. registration, applications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mergency service (e.g. help where no appointment has been made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telephone service (e.g. time to get through to a staff member, phone appointments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complaint resolu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4) How to find u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Clearly state all channels of Communications between Court and Publ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how to give feedback on the charter itself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5) Clients rights and responsibil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the right to review and appeal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the right to lodge a complain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the right to privacy and confidentiality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the right to have informations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the right to access services, facilities and information in a manner which meets their need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ahoma"/>
              </a:rPr>
              <a:t>to treat Court staff with courtesy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ahoma"/>
              </a:rPr>
              <a:t>to attend scheduled meetings punctually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ahoma"/>
              </a:rPr>
              <a:t>to respond to requests for information by the agency accurately, thoroughly and in a timely manner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ahoma"/>
              </a:rPr>
              <a:t>to abide by any legal requirements and other obligations that clients are to meet in order to be eligible for services sough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6) Be open to Feedbacks and Complaints…</a:t>
            </a: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A service charter </a:t>
            </a:r>
            <a:r>
              <a:rPr b="0" i="1" lang="it-IT" sz="1800" spc="-1" strike="noStrike">
                <a:solidFill>
                  <a:srgbClr val="000000"/>
                </a:solidFill>
                <a:latin typeface="Tahoma"/>
              </a:rPr>
              <a:t>must 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contain information on the feedback and complaints processes and make clear: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that the agency welcomes feedback (complaints, compliments and suggestions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how to make a complaint, including relevant postal and email addresses, and phone and fax numbers. Include options (e.g. in person, comment card, on-line feedback form, by phone, letter, a TTY phone number for people who are deaf, hearing or speech impaired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how to give feedback specifically about the Charter itself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that the feedback and complaints handling process is accessible, easy to use and free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that the Court records data on complaints, compliments and suggestions and this i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used to help improve client service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that using the agency’s complaint handling system does not prevent the client from using appeal mechanisms at any time and should list contact details for these services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Text Box 4"/>
          <p:cNvSpPr/>
          <p:nvPr/>
        </p:nvSpPr>
        <p:spPr>
          <a:xfrm>
            <a:off x="611280" y="5734080"/>
            <a:ext cx="799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and sometimes you’ll get Compliments!</a:t>
            </a: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Part 2: How to develop a Service Char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Diagram 6"/>
          <p:cNvGrpSpPr/>
          <p:nvPr/>
        </p:nvGrpSpPr>
        <p:grpSpPr>
          <a:xfrm>
            <a:off x="1747440" y="1302480"/>
            <a:ext cx="5643360" cy="5394960"/>
            <a:chOff x="1747440" y="1302480"/>
            <a:chExt cx="5643360" cy="5394960"/>
          </a:xfrm>
        </p:grpSpPr>
        <p:sp>
          <p:nvSpPr>
            <p:cNvPr id="203" name="_s1028"/>
            <p:cNvSpPr/>
            <p:nvPr/>
          </p:nvSpPr>
          <p:spPr>
            <a:xfrm>
              <a:off x="3082680" y="1302480"/>
              <a:ext cx="2975040" cy="2998800"/>
            </a:xfrm>
            <a:custGeom>
              <a:avLst/>
              <a:gdLst>
                <a:gd name="textAreaLeft" fmla="*/ 0 w 2975040"/>
                <a:gd name="textAreaRight" fmla="*/ 2975400 w 2975040"/>
                <a:gd name="textAreaTop" fmla="*/ 0 h 2998800"/>
                <a:gd name="textAreaBottom" fmla="*/ 2999160 h 2998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f1f0f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4" name="_s1029"/>
            <p:cNvSpPr/>
            <p:nvPr/>
          </p:nvSpPr>
          <p:spPr>
            <a:xfrm rot="4320000">
              <a:off x="4013280" y="2005200"/>
              <a:ext cx="2998800" cy="2974680"/>
            </a:xfrm>
            <a:custGeom>
              <a:avLst/>
              <a:gdLst>
                <a:gd name="textAreaLeft" fmla="*/ 0 w 2998800"/>
                <a:gd name="textAreaRight" fmla="*/ 2999160 w 2998800"/>
                <a:gd name="textAreaTop" fmla="*/ 0 h 2974680"/>
                <a:gd name="textAreaBottom" fmla="*/ 2975040 h 2974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f1f0f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5" name="_s1030"/>
            <p:cNvSpPr/>
            <p:nvPr/>
          </p:nvSpPr>
          <p:spPr>
            <a:xfrm rot="8640000">
              <a:off x="3665160" y="3110760"/>
              <a:ext cx="2974680" cy="2998440"/>
            </a:xfrm>
            <a:custGeom>
              <a:avLst/>
              <a:gdLst>
                <a:gd name="textAreaLeft" fmla="*/ 0 w 2974680"/>
                <a:gd name="textAreaRight" fmla="*/ 2975040 w 2974680"/>
                <a:gd name="textAreaTop" fmla="*/ 0 h 2998440"/>
                <a:gd name="textAreaBottom" fmla="*/ 2998800 h 299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f1f0f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6" name="_s1031"/>
            <p:cNvSpPr/>
            <p:nvPr/>
          </p:nvSpPr>
          <p:spPr>
            <a:xfrm rot="12960000">
              <a:off x="2498040" y="3110400"/>
              <a:ext cx="2975040" cy="2998440"/>
            </a:xfrm>
            <a:custGeom>
              <a:avLst/>
              <a:gdLst>
                <a:gd name="textAreaLeft" fmla="*/ 0 w 2975040"/>
                <a:gd name="textAreaRight" fmla="*/ 2975400 w 2975040"/>
                <a:gd name="textAreaTop" fmla="*/ 0 h 2998440"/>
                <a:gd name="textAreaBottom" fmla="*/ 2998800 h 299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f1f0f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7" name="_s1032"/>
            <p:cNvSpPr/>
            <p:nvPr/>
          </p:nvSpPr>
          <p:spPr>
            <a:xfrm rot="17280000">
              <a:off x="2125800" y="2004840"/>
              <a:ext cx="2998800" cy="2975040"/>
            </a:xfrm>
            <a:custGeom>
              <a:avLst/>
              <a:gdLst>
                <a:gd name="textAreaLeft" fmla="*/ 0 w 2998800"/>
                <a:gd name="textAreaRight" fmla="*/ 2999160 w 2998800"/>
                <a:gd name="textAreaTop" fmla="*/ 0 h 2975040"/>
                <a:gd name="textAreaBottom" fmla="*/ 2975400 h 2975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f1f0f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" name="_s1033"/>
            <p:cNvSpPr/>
            <p:nvPr/>
          </p:nvSpPr>
          <p:spPr>
            <a:xfrm>
              <a:off x="5333760" y="1432080"/>
              <a:ext cx="1094040" cy="110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3300" spc="-1" strike="noStrike">
                  <a:solidFill>
                    <a:srgbClr val="000000"/>
                  </a:solidFill>
                  <a:latin typeface="Tahoma"/>
                </a:rPr>
                <a:t>Drafting</a:t>
              </a:r>
              <a:endParaRPr b="0" lang="en-US" sz="33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" name="_s1034"/>
            <p:cNvSpPr/>
            <p:nvPr/>
          </p:nvSpPr>
          <p:spPr>
            <a:xfrm>
              <a:off x="6145200" y="3942720"/>
              <a:ext cx="1093680" cy="110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3300" spc="-1" strike="noStrike">
                  <a:solidFill>
                    <a:srgbClr val="000000"/>
                  </a:solidFill>
                  <a:latin typeface="Tahoma"/>
                </a:rPr>
                <a:t>Promoting</a:t>
              </a:r>
              <a:endParaRPr b="0" lang="en-US" sz="33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" name="_s1035"/>
            <p:cNvSpPr/>
            <p:nvPr/>
          </p:nvSpPr>
          <p:spPr>
            <a:xfrm>
              <a:off x="2712960" y="1433520"/>
              <a:ext cx="1093680" cy="110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3300" spc="-1" strike="noStrike">
                  <a:solidFill>
                    <a:srgbClr val="000000"/>
                  </a:solidFill>
                  <a:latin typeface="Tahoma"/>
                </a:rPr>
                <a:t>Consulting</a:t>
              </a:r>
              <a:endParaRPr b="0" lang="en-US" sz="33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1" name="_s1036"/>
            <p:cNvSpPr/>
            <p:nvPr/>
          </p:nvSpPr>
          <p:spPr>
            <a:xfrm>
              <a:off x="4025880" y="5495760"/>
              <a:ext cx="1093680" cy="110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3300" spc="-1" strike="noStrike">
                  <a:solidFill>
                    <a:srgbClr val="000000"/>
                  </a:solidFill>
                  <a:latin typeface="Tahoma"/>
                </a:rPr>
                <a:t>Collecting </a:t>
              </a:r>
              <a:endParaRPr b="0" lang="en-US" sz="33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3300" spc="-1" strike="noStrike">
                  <a:solidFill>
                    <a:srgbClr val="000000"/>
                  </a:solidFill>
                  <a:latin typeface="Tahoma"/>
                </a:rPr>
                <a:t>feedback</a:t>
              </a:r>
              <a:endParaRPr b="0" lang="en-US" sz="33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2" name="_s1037"/>
            <p:cNvSpPr/>
            <p:nvPr/>
          </p:nvSpPr>
          <p:spPr>
            <a:xfrm>
              <a:off x="1904760" y="3944160"/>
              <a:ext cx="109404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3300" spc="-1" strike="noStrike">
                  <a:solidFill>
                    <a:srgbClr val="000000"/>
                  </a:solidFill>
                  <a:latin typeface="Tahoma"/>
                </a:rPr>
                <a:t>Reviewing</a:t>
              </a:r>
              <a:endParaRPr b="0" lang="en-US" sz="33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3" name="Text Box 19"/>
          <p:cNvSpPr/>
          <p:nvPr/>
        </p:nvSpPr>
        <p:spPr>
          <a:xfrm>
            <a:off x="3059280" y="3429000"/>
            <a:ext cx="30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Tahoma"/>
              </a:rPr>
              <a:t>= Learn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A “Public Service” i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50560" y="1557000"/>
            <a:ext cx="386388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Provided by a public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In the general inter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Univers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All citize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equal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same pr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2.1 Consultation Proce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4"/>
          <p:cNvSpPr/>
          <p:nvPr/>
        </p:nvSpPr>
        <p:spPr>
          <a:xfrm>
            <a:off x="673200" y="1628640"/>
            <a:ext cx="822960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In preparing a service charter, Court Administrator should consult with clients, staff and other key stakeholders in relation t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Arial"/>
              </a:rPr>
              <a:t>selecting service standards for inclusion in the Charter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Arial"/>
              </a:rPr>
              <a:t>setting service guarantees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Arial"/>
              </a:rPr>
              <a:t>determining the amount and level of detail in a charter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Arial"/>
              </a:rPr>
              <a:t>deciding how performance against the Charter standards and commitments will be measured and monit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Text Box 5"/>
          <p:cNvSpPr/>
          <p:nvPr/>
        </p:nvSpPr>
        <p:spPr>
          <a:xfrm>
            <a:off x="611280" y="5950080"/>
            <a:ext cx="79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Client + Stakeholders = Talk to and Meet wi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2.2 Charter format and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= make it readable and understandable by everybod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lain language style of presentation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void legal jarg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 concise, straightforward and user-friendly presentation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ccessible formats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languages other than Ukraini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accessible websites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braill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audio tap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large pri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 design that meets the needs of a wide client base (i.e., good contrast between text and background; use of colour; size of text; and no background images under text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2.3 Launch and public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a high-profile launch by the Minister or appropriate dignitary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a media campaign and an ongoing communications strategy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communication and distribution of the Service Charter to all staff, clients and stakeholders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distributing the charter to all client contact points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placing it on the Court’s Web sit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3. Maintenance and re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A Service Charter is a living document of a living organis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Learning lessons is a way to improve your service, and the Charter itsel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Ask yourself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What have we learned since the first SC?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What have we improved in the whil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oes it still reflects reality?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the Court’s approach to client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the needs and priorities of the clients and key stakehold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s the current content accurate?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s the format, design and availability what client need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What was the feedback collected?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o we have to make changes to the complaint handling processe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Monitor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54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Client’s feedback and compla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Feedback on the S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262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Respo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Re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Text Box 6"/>
          <p:cNvSpPr/>
          <p:nvPr/>
        </p:nvSpPr>
        <p:spPr>
          <a:xfrm>
            <a:off x="826920" y="4653000"/>
            <a:ext cx="76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Tahoma"/>
              </a:rPr>
              <a:t>… </a:t>
            </a:r>
            <a:r>
              <a:rPr b="0" lang="it-IT" sz="3600" spc="-1" strike="noStrike">
                <a:solidFill>
                  <a:srgbClr val="000000"/>
                </a:solidFill>
                <a:latin typeface="Tahoma"/>
              </a:rPr>
              <a:t>and report !!!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A Service Charter is a learning proce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About your Court’s servi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About the needs of your clients and stakehold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A Service Charter i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A public docu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Stating the basic rights of the citiz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and principles governing the provision of services to user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in a public off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A statement, not a legal document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5" name="Picture 8" descr="bundesbrief"/>
          <p:cNvPicPr/>
          <p:nvPr/>
        </p:nvPicPr>
        <p:blipFill>
          <a:blip r:embed="rId1"/>
          <a:stretch/>
        </p:blipFill>
        <p:spPr>
          <a:xfrm>
            <a:off x="5364000" y="2781360"/>
            <a:ext cx="281952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A Service Charter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Tahoma"/>
              </a:rPr>
              <a:t>clearly identifies the Court, the Court’s purpose, its client base and its services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Tahoma"/>
              </a:rPr>
              <a:t>establishes channels of communication between the Court and its clients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Tahoma"/>
              </a:rPr>
              <a:t>set out the agency’s client service standards and client rights and responsibilities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Tahoma"/>
              </a:rPr>
              <a:t>sets ways to obtain feedback and handling client enquiries and complaints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Tahoma"/>
              </a:rPr>
              <a:t>is developed in consultation with clients, staff and other key stakeholder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Tahoma"/>
              </a:rPr>
              <a:t>is periodically monitored and reviewed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Key Wo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Servi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Transparen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Accountabi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Measurabi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Commun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Particip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User-friendli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Learning and improv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What  in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51"/>
              </a:spcBef>
              <a:buClr>
                <a:srgbClr val="5454c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Tahoma"/>
              </a:rPr>
              <a:t>Basic Informations about the Court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51"/>
              </a:spcBef>
              <a:buClr>
                <a:srgbClr val="5454c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Tahoma"/>
              </a:rPr>
              <a:t>Services Provided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51"/>
              </a:spcBef>
              <a:buClr>
                <a:srgbClr val="5454c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Tahoma"/>
              </a:rPr>
              <a:t>Service Standards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51"/>
              </a:spcBef>
              <a:buClr>
                <a:srgbClr val="5454c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Tahoma"/>
              </a:rPr>
              <a:t>Channels of Communication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51"/>
              </a:spcBef>
              <a:buClr>
                <a:srgbClr val="5454c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Tahoma"/>
              </a:rPr>
              <a:t>Citizens’ rights and responsibilities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51"/>
              </a:spcBef>
              <a:buClr>
                <a:srgbClr val="5454c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Tahoma"/>
              </a:rPr>
              <a:t>Citizen’s feedback and complaint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1) Who we ar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title that clearly identifies the document as a Client Service Charter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5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Tahoma"/>
              </a:rPr>
              <a:t>Basic info about the Court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5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Tahoma"/>
              </a:rPr>
              <a:t>Name of people working in 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5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Tahoma"/>
              </a:rPr>
              <a:t>Vision Statement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5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Tahoma"/>
              </a:rPr>
              <a:t>Who are the clients (actual or potential)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5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Tahoma"/>
              </a:rPr>
              <a:t>Who are the stakeholders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Clients Vs. Stakehold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4000" y="1628640"/>
            <a:ext cx="421164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Clients: those to whom Court directly provides services (internal + extern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Citize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Lawy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Jud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mploye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Prison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105160" y="1483920"/>
            <a:ext cx="378756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Stakeholders: those who have an interest in the successful operation of the Cou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community 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other government ag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business 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people with additional or diverse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Text Box 51"/>
          <p:cNvSpPr/>
          <p:nvPr/>
        </p:nvSpPr>
        <p:spPr>
          <a:xfrm>
            <a:off x="1258920" y="5229360"/>
            <a:ext cx="70581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Text Box 52"/>
          <p:cNvSpPr/>
          <p:nvPr/>
        </p:nvSpPr>
        <p:spPr>
          <a:xfrm>
            <a:off x="755640" y="5229360"/>
            <a:ext cx="7777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Exercise: try map the Clients and Stakeholders of your Cour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2) What we d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Tahoma"/>
              </a:rPr>
              <a:t>Mission Statement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Statement of purpose of the Charter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5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Tahoma"/>
              </a:rPr>
              <a:t>List of services provided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he date of Charter publication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 and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he date of the next review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5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Tahoma"/>
              </a:rPr>
              <a:t>A Mission Statement is ….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2T13:06:42Z</dcterms:created>
  <dc:creator>pippo</dc:creator>
  <dc:description/>
  <dc:language>en-US</dc:language>
  <cp:lastModifiedBy>lipovyi</cp:lastModifiedBy>
  <dcterms:modified xsi:type="dcterms:W3CDTF">2013-08-01T09:32:46Z</dcterms:modified>
  <cp:revision>9</cp:revision>
  <dc:subject/>
  <dc:title>Service Charter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40</vt:r8>
  </property>
  <property fmtid="{D5CDD505-2E9C-101B-9397-08002B2CF9AE}" pid="3" name="Version">
    <vt:r8>2</vt:r8>
  </property>
</Properties>
</file>