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38C5-F571-4CF0-A3B0-47721095E7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501-EB7D-4EF9-B638-4F9EEF5677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276-B8F6-4CF1-A6B0-B6FD457522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749C-396F-47A3-9D03-60F041E6B4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BDAD-9EF7-42AB-AA2A-0B8425DBD4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C603-2488-4E06-BC5D-9B962F9DA9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E4A-80E4-48E8-8B1F-62547A1EE8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38A-6C9D-4F8E-9B1D-03EB524483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A7D7-CA55-4BC4-8901-80DC3F21AD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1E6-0DC4-46AC-BCF5-BF8971D8D3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302-7ED5-4571-B92F-611CC6003F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B4E5-B090-474E-95D9-F7E30C99588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9EA-E530-4113-AAD0-3647BC73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C6C-00B5-4249-BA8E-D8BFCBDE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175-6BFE-4B42-8E47-C63C7C30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D80-E1CB-439F-A695-86C477E1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9E3-1C2C-4526-A947-D34B70BE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69FC-276C-43DC-8550-02C409CA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79DF-1B2E-486E-A7CA-2D27D907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BE6D-7D76-4443-9EFE-C68115DA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0A20-F369-447A-9F9D-6459E81F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220B-92FF-4EBF-BB97-14418BE0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0FAB-D82A-4C21-A8A1-2E40AC29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550-F029-423D-97A2-791643B7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7BFD-185E-480E-A1D3-7ED98DCA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FCD-CD43-4C67-A14C-F539FE0D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C71D-AF52-4942-B94F-A38C393E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CABA-97A4-4E6F-BD1E-442F191A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D31B-1DEC-46F9-A0AC-56BECDC6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DC3-032B-4593-BC43-74578C8F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919-D763-47BB-9BEA-886C1E4B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5B8-7474-4C4C-AECF-E1E02341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F2F-A3EB-4FE4-9680-FA0AAA8F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4CB-CF30-4E2C-9729-429629E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DD8-5115-4387-8449-5E5E65C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3D3-AE28-4772-A078-A49866EF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58EB-1795-419D-BF74-8579DB7A1C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31D1-DCA8-42C2-8946-0BC0E3D81A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ervice Char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How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Guaranteed standard ≠ Target standard (your promises ≠ your objectives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wo sets of Standards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relationship with the cli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services provid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deliver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Standards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clearly what the client needs to do to achieve a resul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what are their rights and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arantee staff manner and interpersonal skills: friendliness, helpfulness, respect, sensitivity to the clients’ individual needs, identifying themselves, explaining, listening carefully to th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mprove your standards of relationship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b) Quality of Services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asically, a service is an answer to a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lpful (e.g. prompt referrals, availability of help in emergenc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ear (e.g. of letters, forms and publications, processes and other product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derstandable (by people with disabilit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urate (e.g. of advice, information, payments or filled ord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let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priate (e.g. fit to clients’ needs and circumstanc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d) Quality of delivery (Q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qual acces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ffordable cost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cial, cultural and environmental accepta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When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The timeliness of service delive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efine how much time a client will wait for a service to be deliv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Quantitative stand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ding to client contacts (e.g. letters, emails, phone message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ng (e.g. registration, application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ergency service (e.g. help where no appointment has been mad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lephone service (e.g. time to get through to a staff member, phone appointment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laint re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How to find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early state all channels of Communications between Court and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give feedback on the charter itsel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) Clients right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review and appe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lodge a complai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privacy and confidentialit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have inform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access services, facilities and information in a manner which meets thei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treat Court staff with courtes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ttend scheduled meetings punctuall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respond to requests for information by the agency accurately, thoroughly and in a timely mann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bide by any legal requirements and other obligations that clients are to meet in order to be eligible for services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Be open to Feedbacks and Complaints…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service charter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ain information on the feedback and complaints processes and make clear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agency welcomes feedback (complaints, compliments and suggestion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make a complaint, including relevant postal and email addresses, and phone and fax numbers. Include options (e.g. in person, comment card, on-line feedback form, by phone, letter, a TTY phone number for people who are deaf, hearing or speech impai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give feedback specifically about the Charter itself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feedback and complaints handling process is accessible, easy to use and fre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Court records data on complaints, compliments and suggestions and this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sed to help improve client servic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using the agency’s complaint handling system does not prevent the client from using appeal mechanisms at any time and should list contact details for these servic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5734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sometimes you’ll get Compliments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 2: How to develop a Servic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iagram 6"/>
          <p:cNvGrpSpPr/>
          <p:nvPr/>
        </p:nvGrpSpPr>
        <p:grpSpPr>
          <a:xfrm>
            <a:off x="1747440" y="1302480"/>
            <a:ext cx="5643360" cy="5394960"/>
            <a:chOff x="1747440" y="1302480"/>
            <a:chExt cx="5643360" cy="5394960"/>
          </a:xfrm>
        </p:grpSpPr>
        <p:sp>
          <p:nvSpPr>
            <p:cNvPr id="203" name="_s1028"/>
            <p:cNvSpPr/>
            <p:nvPr/>
          </p:nvSpPr>
          <p:spPr>
            <a:xfrm>
              <a:off x="3082680" y="1302480"/>
              <a:ext cx="2975040" cy="299880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4320000">
              <a:off x="4013280" y="2005200"/>
              <a:ext cx="2998800" cy="297468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8640000">
              <a:off x="3665160" y="3110760"/>
              <a:ext cx="2974680" cy="299844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 rot="12960000">
              <a:off x="2498040" y="3110400"/>
              <a:ext cx="2975040" cy="299844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 rot="17280000">
              <a:off x="2125800" y="2004840"/>
              <a:ext cx="2998800" cy="29750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5333760" y="1432080"/>
              <a:ext cx="10940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Draf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6145200" y="39427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Promo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35"/>
            <p:cNvSpPr/>
            <p:nvPr/>
          </p:nvSpPr>
          <p:spPr>
            <a:xfrm>
              <a:off x="2712960" y="14335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nsul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36"/>
            <p:cNvSpPr/>
            <p:nvPr/>
          </p:nvSpPr>
          <p:spPr>
            <a:xfrm>
              <a:off x="4025880" y="549576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llecting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feedback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904760" y="3944160"/>
              <a:ext cx="10940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Review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Le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“Public Service”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vided by a public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the general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citiz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qu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am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Consul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eparing a service charter, Court Administrator should consult with clients, staff and other key stakeholders in relation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lecting service standards for inclusion in the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tting service guarante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termining the amount and level of detail in a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ciding how performance against the Charter standards and commitments will be measured and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11280" y="595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 + Stakeholders = Talk to and Mee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Charter format and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= make it readable and understandable by every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in language style of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oid legal jarg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concise, straightforward and user-friendly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essible forma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uages other than Ukraini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ible websi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dio t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rge 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design that meets the needs of a wide client base (i.e., good contrast between text and background; use of colour; size of text; and no background images under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3 Launch and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high-profile launch by the Minister or appropriate dignita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media campaign and an ongoing communications strate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unication and distribution of the Service Charter to all staff, clients and stakehold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ributing the charter to all client contact poi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lacing it on the Court’s Web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Maintenance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Service Charter is a living document of a living organ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lessons is a way to improve your service, and the Charter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learned since the first SC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improved in the wh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es it still reflects realit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Court’s approach to clien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needs and priorities of the clients and key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current content accur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format, design and availability what client nee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was the feedback collected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 we have to make changes to the complaint handling proce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nito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’s feedback an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edback on the 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2692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nd report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ervice Charter is a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your Court’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the needs of your clients and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ublic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ting the basic rights of the cit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d principles governing the provision of services to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a public off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statement, not a legal docu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learly identifies the Court, the Court’s purpose, its client base and its servic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ablishes channels of communication between the Court and its cli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 out the agency’s client service standards and client rights and responsibil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s ways to obtain feedback and handling client enquiries and complai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developed in consultation with clients, staff and other key stakehold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periodically monitored and review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asu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and impro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 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rmations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 Standar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hannels of Communic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s’ rights and responsibil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’s feedback and complai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Who w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itle that clearly identifies the document as a Client Service Char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ame of people working i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Vi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clients (actual or potenti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stakehol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ents Vs.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ents: those to whom Court directly provides services (internal + exter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s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keholders: those who have an interest in the successful operation of the Co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munit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her government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siness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ople with additional or diver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55640" y="522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ercise: try map the Clients and Stakeholders of your Cou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W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ment of purpose of the Char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ist of 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date of Charter publicatio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ate of the next review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A Mission Statement is …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2:46Z</dcterms:modified>
  <cp:revision>9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