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C8BC-7B04-45AE-B9CF-26A7AD5376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1A1E-3BA4-41BF-AE1C-D82F474BB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4975-0264-469A-93E2-D72C126A1DA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6308-1C08-4D2B-9724-66874874B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519B-1586-4FC9-B697-9061F379E67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617C-4FC6-4F46-8945-33C597B74A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313C-7992-47D9-B853-DA4DBB8D6D4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ell, you have probably seen the film “Angels and Dem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5D3B-1523-48A9-82E6-0D473E188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2478-D935-4C84-BF2D-B26C226974D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F2DB-518E-42DC-A23B-BB9E0B799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CAB2-5EF4-4B4F-B6DD-91DEEF4D101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B94F-444C-4769-914D-C0C7DA651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5202-0335-4B15-AD79-FCFDDBEBECE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569D-8941-4C55-91CB-9992B7413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5BC1-1836-414F-BE37-A6E9C67858D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45C0-C021-4FEA-934B-A6BF9479BC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C75D-C382-4B06-901E-4272BDEB9067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1A85-FAA7-40A6-8DC0-DB8A4F744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8630-2053-4CC1-A636-4D78080EA49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3966-7EE9-4398-8C00-6746C8C9B7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A831-82D4-414F-B086-9DBB628F922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02DF-F535-46EE-A35D-E72F33E4E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B425-E149-453D-8B45-3A76A689489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4B68-550C-42D8-A659-A1F218750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F52B-9509-47AA-BB83-D4E4BD331A0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8B4F-5961-4697-9E48-211DE6F0E4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D3EF-036C-4038-877D-877CA1BF19B4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4F93-1C53-4018-A9CD-6AD241C3EB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D61E-A201-4B4E-9C6F-089205586DF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3771-113D-417F-AD70-3C0F4003E0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E5F8-1CC3-45B1-9D7E-3E41672160C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E949-1707-4606-A252-557EDD0F2B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A90C-D09A-4385-B866-FC30CA7AE92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B755-0FF0-498B-9AC9-3EAE95199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2C39-3D52-4756-99FB-A79EA92DA99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B8F0-A3AA-4EF6-976B-877C523CA1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498F-D140-4505-82AA-0D1F283A800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3D32-A61C-436E-B41E-EE79AFEE9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40C4-92F1-485E-9189-99C9995BD59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DB3D-8CC5-439C-A039-68363B48D3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E26D-D9DF-438C-A341-3BDF0714085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96E3-6937-49F2-BF45-CC2BDC725F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C5E1-5BC5-4B91-B784-7E1916B7EB5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3942-0491-422F-A2AD-B76ADAD7A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349F-81CA-481F-A4DD-64066EE749A8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4A1-15EC-42AA-8A58-EAF83E7C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9C9-CB3C-4194-B1C0-92F8600A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7B7-6922-40B0-BD3A-A7970C25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BA7-FFE4-47EF-9C82-5BFF5413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13A-D47A-4F4E-95CE-D14FF0AD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CEE-D80E-4E6B-BEE1-E5794ABA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8CA-DF3B-451B-8C47-80904DBB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91C-C6AF-4202-AD43-9F63ED8C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01B-6112-4034-A9D8-E6FA634B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FEA5-0D55-4D96-9274-9789E1CF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593-94A6-4EA7-AF93-4154486B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44D1-2DC7-453F-9FDD-D2C5AB0B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70E6-B81E-4EF4-A85A-8AF388CD30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ibsorvroma.wordpress.com/" TargetMode="External"/><Relationship Id="rId2" Type="http://schemas.openxmlformats.org/officeDocument/2006/relationships/hyperlink" Target="http://twitter.com/tribsorv" TargetMode="External"/><Relationship Id="rId3" Type="http://schemas.openxmlformats.org/officeDocument/2006/relationships/hyperlink" Target="http://www.flickr.com/photos/46730249@N02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 судоустрою Італії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64000" y="1294920"/>
            <a:ext cx="3780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Garamond"/>
              </a:rPr>
              <a:t>Даріо Куінтавал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іністерство юстиції 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рівник апара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ий суд з нагл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иконанням покар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ста 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quadriga"/>
          <p:cNvPicPr/>
          <p:nvPr/>
        </p:nvPicPr>
        <p:blipFill>
          <a:blip r:embed="rId1"/>
          <a:stretch/>
        </p:blipFill>
        <p:spPr>
          <a:xfrm>
            <a:off x="324000" y="13716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глядове правосуд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ribun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rveglianza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нує функції, я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ершої інстан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так і суду апеляційної інстанції з питань виконання покаран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д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 нагляд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agistra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rveglianza) є суддею першої інстанц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нагляду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л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+ 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д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сперт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питан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лог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соці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х проблем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сві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сихіатрії та клін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римінолог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міста 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DSC04275p"/>
          <p:cNvPicPr/>
          <p:nvPr/>
        </p:nvPicPr>
        <p:blipFill>
          <a:blip r:embed="rId1"/>
          <a:stretch/>
        </p:blipFill>
        <p:spPr>
          <a:xfrm>
            <a:off x="324000" y="1628640"/>
            <a:ext cx="860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міста 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00720" y="1628640"/>
            <a:ext cx="28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а Рим розглядає справи загальнонаціонального значе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DSC09219"/>
          <p:cNvPicPr/>
          <p:nvPr/>
        </p:nvPicPr>
        <p:blipFill>
          <a:blip r:embed="rId1"/>
          <a:stretch/>
        </p:blipFill>
        <p:spPr>
          <a:xfrm>
            <a:off x="250920" y="177336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удьте нашими друзя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356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ibsorvroma.word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: Tribunale di Sorveglianza di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witter.com/tribso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ckr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lickr.com/photos/46730249@N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an"/>
          <p:cNvPicPr/>
          <p:nvPr/>
        </p:nvPicPr>
        <p:blipFill>
          <a:blip r:embed="rId4"/>
          <a:stretch/>
        </p:blipFill>
        <p:spPr>
          <a:xfrm>
            <a:off x="179280" y="1773360"/>
            <a:ext cx="540072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управл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ща Рада Судді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олює Президент Республі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ирається усіма судд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чає Голів судів та Прокуро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іє як дисциплінарний суд для судді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іністерство Юсти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начення суддів, адвокатів, нотаріусів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парат суд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основних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партамен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ова Адміністраці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іністрація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”язни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венальна юстиці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конотворчий департ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.000 співробітни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ерівники апара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адовц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іністерства юстиці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повідальні за кадров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рганізац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йне 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інанс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ве забезпеченн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звітн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ін'юс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ада запроваджена 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з організованою злочинніст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основних злочинних організації (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фі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кремий ви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лоч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"мафіозні об'єднання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: Національн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правлінн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оротьбі з мафіє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A: Національний прокурор по боротьбі з мафією під наглядом Генерального прокурора Кас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іціює 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орд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зслідува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A: Районн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правлінн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оротьби з мафією (2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креме агенст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іції боротьбі з маф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з організованою злочинніст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4582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жим утримання у в»язниці : Мафія + тероризм + наркоти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користування телефон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спілкування або листування з іншими ув'язнени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зустрічі з третіми сторон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ження на побачення (членам родини дозволено один раз на місяць за умови спілкування чере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m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сте скло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отримання або відправлення грошей (більше встановленої су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організацію культурних, рекреаційних та спортивних заход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голосування або стоячи у виборах тюремних представник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участь у мистецькій і ремесленіцькій діяльност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проти організованої злочинн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rresto_provenzano"/>
          <p:cNvPicPr/>
          <p:nvPr/>
        </p:nvPicPr>
        <p:blipFill>
          <a:blip r:embed="rId1"/>
          <a:stretch/>
        </p:blipFill>
        <p:spPr>
          <a:xfrm>
            <a:off x="250920" y="1989000"/>
            <a:ext cx="4389480" cy="3854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а Рим діє на загальнонаціональному рівні як апеляційний с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4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 dec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іскація всіх актив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статків 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альшим призначенням на соціальні ці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 Італі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”єдна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ї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 1861 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мократична Республіка з 1946 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раїна-член Европейського Сою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новник НА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показниками виробництва ВВП посіда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місц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іт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ема охорони здоров'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оцінками Всесвітньої Організації Здоров”я посіда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місц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ві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Колиска закону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ший в світі університет (Юридичний факультет Боло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ї 1088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ша країна,в якій було скасовано смертну кару (178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лен 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рою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точні пробле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ганізована злочинні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румпован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тій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нфлікт між політикою та судо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 системо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мірна кількість відкладених спра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вільного судочинства (5 мільйоні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мір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вал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д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міналь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их спра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є справи за порушення ЄКПЛ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вропейська Конвенція з Прав Люд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тяжуюч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конодавст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,00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процес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ифікац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Найбільш важливий італійський внесок в  українську систему судоустрою Поки щ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авові машини Еспресс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! 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offeemachine"/>
          <p:cNvPicPr/>
          <p:nvPr/>
        </p:nvPicPr>
        <p:blipFill>
          <a:blip r:embed="rId1"/>
          <a:stretch/>
        </p:blipFill>
        <p:spPr>
          <a:xfrm>
            <a:off x="1692360" y="1413000"/>
            <a:ext cx="57402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питанн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Відповіді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untoint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селення та імміграц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tranieri_in_Italia_2008"/>
          <p:cNvPicPr/>
          <p:nvPr/>
        </p:nvPicPr>
        <p:blipFill>
          <a:blip r:embed="rId1"/>
          <a:stretch/>
        </p:blipFill>
        <p:spPr>
          <a:xfrm>
            <a:off x="324000" y="2924280"/>
            <a:ext cx="8604000" cy="3744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24000" y="119700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60.000.000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4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млн. іммігра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&gt; 300.000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українці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( “Badanti” =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доглядальниц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Уряд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рховенство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ала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л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ря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залежна судова вл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зиден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еспублі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мер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і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Регіо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итуці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міністративні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іональний закон (не в цивільних і кримінальних справ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3200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титуційний су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аль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циві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і кримін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міністративний суд бухгалтер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ійск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іск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giudici"/>
          <p:cNvPicPr/>
          <p:nvPr/>
        </p:nvPicPr>
        <p:blipFill>
          <a:blip r:embed="rId1"/>
          <a:stretch/>
        </p:blipFill>
        <p:spPr>
          <a:xfrm>
            <a:off x="179280" y="170028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гіст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000 (+ 3500 почесних судді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лежність  та самовряд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курори+ Судд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раються за конкур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єрний зріст за старш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сока репутація і прести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7 магістратів вбито (1969 -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falcone_borsellino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4427640" y="5300640"/>
            <a:ext cx="42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жованні Фальконе -  Паоло Борселі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ова систе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Цивіль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риміналь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асаційний с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пеляційний с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першої інстанці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ировий суд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ий прокурор при Касаційному суд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ий прокурор при Апеляційному суд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ржавний обвинув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курор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ходять до скла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ціаль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ідді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ліції (судової поліції), координують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слідування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истема правосуд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 мати 3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ових засідання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Кас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шенн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е є остато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е підлягає виконанн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 Кас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кщо Касац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ю відхил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значаютьс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і слух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еляц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це нові рішення, а не перегляд прецедентної постанови (Novum judicu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іякого суду присяжних, але більшість серйозних справ, розгл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ає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виїздни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до складу якого входять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есійних суддів, Giudici Togati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професій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udici Popo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0,000 осіб за гратами ( ½ з них громадяни інших держав… Українців не багато), дуже часто оголошується амніст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ституція забороняє негуманне поводження з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найголовніша ланка виправної систе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ймає рішення про випробний термін (умовне покаран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нує рішення с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понує альтернативні засоби відбування пока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ує заходи безп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25:0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