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FE56B-1557-4A26-B91D-FDD1652B04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B4CFA-FF55-4608-B43C-309A41FD0E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bild - välkom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857D6-7044-498F-81BF-0F61A0CDCF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6AC1-DA3E-4445-B82F-E9B087E5B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78DD-AD4B-4462-84A5-129C375FD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0370-210E-46C4-9ED7-87BA5A983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9520-EB96-4475-A562-C3F29751B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5357-18E1-496E-B9FB-7E4AFD2B0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6BDE-FCD7-4B54-99C3-553EF02D2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AE4D-A420-43B3-807A-C086700A2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D9C9-EF2B-4C81-9ADC-AB93560B6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832C-820C-452F-9E13-1B5B27B9D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24ED-A9DB-4841-918A-9F6DF0A6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217E-EF09-47AC-A359-49354C3B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0A6D-373D-4F72-9A11-197714DC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49319-B605-4638-9975-7023CE8C11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569080" cy="211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499"/>
              </a:lnSpc>
              <a:spcBef>
                <a:spcPts val="2200"/>
              </a:spcBef>
              <a:spcAft>
                <a:spcPts val="19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333399"/>
                </a:solidFill>
                <a:latin typeface="Arial"/>
              </a:rPr>
              <a:t>Зв'язки з громадськістю -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uk-UA" sz="4400" spc="-1" strike="noStrike">
                <a:solidFill>
                  <a:srgbClr val="333399"/>
                </a:solidFill>
                <a:latin typeface="Arial"/>
              </a:rPr>
              <a:t>С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успільн</a:t>
            </a:r>
            <a:r>
              <a:rPr b="1" lang="uk-UA" sz="4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довір</a:t>
            </a:r>
            <a:r>
              <a:rPr b="1" lang="uk-UA" sz="4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uk-UA" sz="4400" spc="-1" strike="noStrike">
                <a:solidFill>
                  <a:srgbClr val="333399"/>
                </a:solidFill>
                <a:latin typeface="Arial"/>
              </a:rPr>
              <a:t> та конфіденційність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в суд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163440" y="2349360"/>
            <a:ext cx="8980560" cy="19940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3276720" y="594360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Шведські су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dov_center"/>
          <p:cNvPicPr/>
          <p:nvPr/>
        </p:nvPicPr>
        <p:blipFill>
          <a:blip r:embed="rId2"/>
          <a:stretch/>
        </p:blipFill>
        <p:spPr>
          <a:xfrm>
            <a:off x="3352680" y="4419720"/>
            <a:ext cx="23050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333399"/>
                </a:solidFill>
                <a:latin typeface="Garamond"/>
              </a:rPr>
              <a:t>Важливі фактор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оступність судів та працівників суду для сторін та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rebuchet MS"/>
              </a:rPr>
              <a:t>свідків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rebuchet MS"/>
              </a:rPr>
              <a:t>Відношення в суді до сторін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та свідкі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rebuchet MS"/>
              </a:rPr>
              <a:t>Процесуальні строки у суд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розорість процесу прийняття судових рішен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rebuchet MS"/>
              </a:rPr>
              <a:t>Формулювання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 рішень </a:t>
            </a:r>
            <a:r>
              <a:rPr b="0" lang="uk-UA" sz="2400" spc="-1" strike="noStrike">
                <a:solidFill>
                  <a:srgbClr val="000000"/>
                </a:solidFill>
                <a:latin typeface="Trebuchet MS"/>
              </a:rPr>
              <a:t>та ухв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Яким чином діяльність судів зображується в засобах масової інформаці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rebuchet MS"/>
              </a:rPr>
              <a:t>Обізнанність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широкої громадськості про те, що відбувається в судах 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rebuchet MS"/>
              </a:rPr>
              <a:t>П</a:t>
            </a:r>
            <a:r>
              <a:rPr b="0" lang="sv-SE" sz="2400" spc="-1" strike="noStrike">
                <a:solidFill>
                  <a:srgbClr val="000000"/>
                </a:solidFill>
                <a:latin typeface="Trebuchet MS"/>
              </a:rPr>
              <a:t>оведінк</a:t>
            </a:r>
            <a:r>
              <a:rPr b="0" lang="uk-UA" sz="2400" spc="-1" strike="noStrike">
                <a:solidFill>
                  <a:srgbClr val="000000"/>
                </a:solidFill>
                <a:latin typeface="Trebuchet MS"/>
              </a:rPr>
              <a:t>а</a:t>
            </a:r>
            <a:r>
              <a:rPr b="0" lang="sv-SE" sz="2400" spc="-1" strike="noStrike">
                <a:solidFill>
                  <a:srgbClr val="000000"/>
                </a:solidFill>
                <a:latin typeface="Trebuchet MS"/>
              </a:rPr>
              <a:t> судді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Garamond"/>
              </a:rPr>
              <a:t>Заходи щодо поліпшення процесу прийому громадян, та учасників процес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381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rebuchet MS"/>
              </a:rPr>
              <a:t>Наявність рекомендацій та вимог до співробітників суду відповідальних за прийом громадян щодо спілкування із  учасниками процес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Легкий доступ громадян до електронної, телефонної та письмової інформації суду. 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rebuchet MS"/>
              </a:rPr>
              <a:t>Наявність інформації щодо правил та вимог участі сторін у процесі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Запровадження «Приймальні громадян»- окремого структурного підрозділу або визначення відповідального фахівця  з метою поліпшення звязків з громадскісьтю  та ЗМІ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ерсонал суду має пройти навчання щодо прийому громадян та спілкуванню з учасниками процес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Garamond"/>
              </a:rPr>
              <a:t>Заходи щодо вдосконалення формулювань  судових документ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rebuchet MS"/>
              </a:rPr>
              <a:t>Впровадження офіційних рекомендацій та вимог щодо оформлення судових документів (рішень, ухвал,п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останов</a:t>
            </a:r>
            <a:r>
              <a:rPr b="0" lang="uk-UA" sz="2800" spc="-1" strike="noStrike">
                <a:solidFill>
                  <a:srgbClr val="000000"/>
                </a:solidFill>
                <a:latin typeface="Trebuchet MS"/>
              </a:rPr>
              <a:t> тощ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Рекомендації</a:t>
            </a:r>
            <a:r>
              <a:rPr b="0" lang="uk-UA" sz="2800" spc="-1" strike="noStrike">
                <a:solidFill>
                  <a:srgbClr val="000000"/>
                </a:solidFill>
                <a:latin typeface="Trebuchet MS"/>
              </a:rPr>
              <a:t> щодо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rebuchet MS"/>
              </a:rPr>
              <a:t>використання формулювань при написанні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rebuchet MS"/>
              </a:rPr>
              <a:t>судових документів (рішень, ухвал, 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вирок</a:t>
            </a:r>
            <a:r>
              <a:rPr b="0" lang="uk-UA" sz="2800" spc="-1" strike="noStrike">
                <a:solidFill>
                  <a:srgbClr val="000000"/>
                </a:solidFill>
                <a:latin typeface="Trebuchet MS"/>
              </a:rPr>
              <a:t>ів тощ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rebuchet MS"/>
              </a:rPr>
              <a:t>Працівники 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суду </a:t>
            </a:r>
            <a:r>
              <a:rPr b="0" lang="uk-UA" sz="2800" spc="-1" strike="noStrike">
                <a:solidFill>
                  <a:srgbClr val="000000"/>
                </a:solidFill>
                <a:latin typeface="Trebuchet MS"/>
              </a:rPr>
              <a:t> відповідальні за розробку судових документів мають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 пройти підготовку </a:t>
            </a:r>
            <a:r>
              <a:rPr b="0" lang="uk-UA" sz="2800" spc="-1" strike="noStrike">
                <a:solidFill>
                  <a:srgbClr val="000000"/>
                </a:solidFill>
                <a:latin typeface="Trebuchet MS"/>
              </a:rPr>
              <a:t>з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rebuchet MS"/>
              </a:rPr>
              <a:t> написання судових документ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Garamond"/>
              </a:rPr>
              <a:t>Необхідні заходи щодо покращення  відносин  судів із засобами масової інформаці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ді –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ють знаходити час на спілкування з ЗМІ щодо справ які вони розглядають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и судів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инні сприяти створенню атмосфери відкритості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н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і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да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ти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інформацію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М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іа-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д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утній в суді якщо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а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ідність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іа-группа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іа-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д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в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ою д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я регулярного обміну досвідом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 питань спілкування із ЗМ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іональна судова адміністрація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повідальн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підготовку суддів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 апарату суд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 питаннь взаємодії із ЗМІ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с-служба Національної судової адміністрації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 відпр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ю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очк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ю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журналістів та інших осіб,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иникли питання з приводу діяльності судів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с-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ретар суду у Швеції -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іційно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яти суди і нада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ти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інформацію про діяльність суді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Garamond"/>
              </a:rPr>
              <a:t>Інші заходи для зміцнення довіри в суд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Кращі веб-сайти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Доступ сторін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(учасників процесу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до інформації про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хід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справи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Електронне діловодство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в суд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соби спілкування з громадськістю, відкритий доступ до інформації: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блоги,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офесійні спільноти тощо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Більша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відкритість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удової систе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Відвідування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шкі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День відкритих дверей в суд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ipovyi</cp:lastModifiedBy>
  <dcterms:modified xsi:type="dcterms:W3CDTF">2013-08-01T09:24:11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