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852AF-125D-4472-AA3B-3BAD229C000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C93F2-8DE9-4C93-8E11-10B66E41746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bild - välkom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B0482-5F0A-4DAC-88C1-9AE1673F3CA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9DE3-D7BC-49D8-B4CA-C1C98A00D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9075-5CBA-48D1-9BC1-E30D052BB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03E2-E4FA-44E7-A05F-013321911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3827-6779-4D44-841B-24E4F786F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D226-5E58-405B-AF7A-1CBBE5DC4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495B-B41D-49D6-BA1C-DBD49FA85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18FE-4EE7-417F-B998-76A9D93B8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E308-CEA6-4F04-8BED-CAD8471AD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9E8B-C428-4159-88B8-13A742C5F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43B8-FA4F-4EF9-BEBB-56D63CE9D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4FA2-3BCC-4701-ADAD-F06E734B7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CE71-E1ED-439C-9478-33E696778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E1B33-ABC6-47DD-B414-A4E5784BC54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8569080" cy="211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4499"/>
              </a:lnSpc>
              <a:spcBef>
                <a:spcPts val="2200"/>
              </a:spcBef>
              <a:spcAft>
                <a:spcPts val="19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333399"/>
                </a:solidFill>
                <a:latin typeface="Arial"/>
              </a:rPr>
              <a:t>Зв'язки з громадськістю -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uk-UA" sz="4400" spc="-1" strike="noStrike">
                <a:solidFill>
                  <a:srgbClr val="333399"/>
                </a:solidFill>
                <a:latin typeface="Arial"/>
              </a:rPr>
              <a:t>С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успільн</a:t>
            </a:r>
            <a:r>
              <a:rPr b="1" lang="uk-UA" sz="4400" spc="-1" strike="noStrike">
                <a:solidFill>
                  <a:srgbClr val="333399"/>
                </a:solidFill>
                <a:latin typeface="Arial"/>
              </a:rPr>
              <a:t>а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довір</a:t>
            </a:r>
            <a:r>
              <a:rPr b="1" lang="uk-UA" sz="4400" spc="-1" strike="noStrike">
                <a:solidFill>
                  <a:srgbClr val="333399"/>
                </a:solidFill>
                <a:latin typeface="Arial"/>
              </a:rPr>
              <a:t>а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uk-UA" sz="4400" spc="-1" strike="noStrike">
                <a:solidFill>
                  <a:srgbClr val="333399"/>
                </a:solidFill>
                <a:latin typeface="Arial"/>
              </a:rPr>
              <a:t> та конфіденційність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в суда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1"/>
          <a:stretch/>
        </p:blipFill>
        <p:spPr>
          <a:xfrm>
            <a:off x="163440" y="2349360"/>
            <a:ext cx="8980560" cy="19940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3276720" y="5943600"/>
            <a:ext cx="251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Шведські су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dov_center"/>
          <p:cNvPicPr/>
          <p:nvPr/>
        </p:nvPicPr>
        <p:blipFill>
          <a:blip r:embed="rId2"/>
          <a:stretch/>
        </p:blipFill>
        <p:spPr>
          <a:xfrm>
            <a:off x="3352680" y="4419720"/>
            <a:ext cx="23050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333399"/>
                </a:solidFill>
                <a:latin typeface="Garamond"/>
              </a:rPr>
              <a:t>Важливі фактор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Доступність судів та працівників суду для сторін та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Trebuchet MS"/>
              </a:rPr>
              <a:t>свідків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rebuchet MS"/>
              </a:rPr>
              <a:t>Відношення в суді до сторін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та свідкі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rebuchet MS"/>
              </a:rPr>
              <a:t>Процесуальні строки у суд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Прозорість процесу прийняття судових рішен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rebuchet MS"/>
              </a:rPr>
              <a:t>Формулювання</a:t>
            </a: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 рішень </a:t>
            </a:r>
            <a:r>
              <a:rPr b="0" lang="uk-UA" sz="2400" spc="-1" strike="noStrike">
                <a:solidFill>
                  <a:srgbClr val="000000"/>
                </a:solidFill>
                <a:latin typeface="Trebuchet MS"/>
              </a:rPr>
              <a:t>та ухв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Яким чином діяльність судів зображується в засобах масової інформації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rebuchet MS"/>
              </a:rPr>
              <a:t>Обізнанність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широкої громадськості про те, що відбувається в судах </a:t>
            </a: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rebuchet MS"/>
              </a:rPr>
              <a:t>П</a:t>
            </a:r>
            <a:r>
              <a:rPr b="0" lang="sv-SE" sz="2400" spc="-1" strike="noStrike">
                <a:solidFill>
                  <a:srgbClr val="000000"/>
                </a:solidFill>
                <a:latin typeface="Trebuchet MS"/>
              </a:rPr>
              <a:t>оведінк</a:t>
            </a:r>
            <a:r>
              <a:rPr b="0" lang="uk-UA" sz="2400" spc="-1" strike="noStrike">
                <a:solidFill>
                  <a:srgbClr val="000000"/>
                </a:solidFill>
                <a:latin typeface="Trebuchet MS"/>
              </a:rPr>
              <a:t>а</a:t>
            </a:r>
            <a:r>
              <a:rPr b="0" lang="sv-SE" sz="2400" spc="-1" strike="noStrike">
                <a:solidFill>
                  <a:srgbClr val="000000"/>
                </a:solidFill>
                <a:latin typeface="Trebuchet MS"/>
              </a:rPr>
              <a:t> судді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Garamond"/>
              </a:rPr>
              <a:t>Заходи щодо поліпшення процесу прийому громадян, та учасників процес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3818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rebuchet MS"/>
              </a:rPr>
              <a:t>Наявність рекомендацій та вимог до співробітників суду відповідальних за прийом громадян щодо спілкування із  учасниками процес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Легкий доступ громадян до електронної, телефонної та письмової інформації суду. </a:t>
            </a: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rebuchet MS"/>
              </a:rPr>
              <a:t>Наявність інформації щодо правил та вимог участі сторін у процесі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Запровадження «Приймальні громадян»- окремого структурного підрозділу або визначення відповідального фахівця  з метою поліпшення звязків з громадскісьтю  та ЗМІ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Персонал суду має пройти навчання щодо прийому громадян та спілкуванню з учасниками процес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Garamond"/>
              </a:rPr>
              <a:t>Заходи щодо вдосконалення формулювань  судових документ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rebuchet MS"/>
              </a:rPr>
              <a:t>Впровадження офіційних рекомендацій та вимог щодо оформлення судових документів (рішень, ухвал,п</a:t>
            </a: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останов</a:t>
            </a:r>
            <a:r>
              <a:rPr b="0" lang="uk-UA" sz="2800" spc="-1" strike="noStrike">
                <a:solidFill>
                  <a:srgbClr val="000000"/>
                </a:solidFill>
                <a:latin typeface="Trebuchet MS"/>
              </a:rPr>
              <a:t> тощо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Рекомендації</a:t>
            </a:r>
            <a:r>
              <a:rPr b="0" lang="uk-UA" sz="2800" spc="-1" strike="noStrike">
                <a:solidFill>
                  <a:srgbClr val="000000"/>
                </a:solidFill>
                <a:latin typeface="Trebuchet MS"/>
              </a:rPr>
              <a:t> щодо</a:t>
            </a: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Trebuchet MS"/>
              </a:rPr>
              <a:t>використання формулювань при написанні</a:t>
            </a: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Trebuchet MS"/>
              </a:rPr>
              <a:t>судових документів (рішень, ухвал, </a:t>
            </a: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вирок</a:t>
            </a:r>
            <a:r>
              <a:rPr b="0" lang="uk-UA" sz="2800" spc="-1" strike="noStrike">
                <a:solidFill>
                  <a:srgbClr val="000000"/>
                </a:solidFill>
                <a:latin typeface="Trebuchet MS"/>
              </a:rPr>
              <a:t>ів тощо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rebuchet MS"/>
              </a:rPr>
              <a:t>Працівники </a:t>
            </a: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суду </a:t>
            </a:r>
            <a:r>
              <a:rPr b="0" lang="uk-UA" sz="2800" spc="-1" strike="noStrike">
                <a:solidFill>
                  <a:srgbClr val="000000"/>
                </a:solidFill>
                <a:latin typeface="Trebuchet MS"/>
              </a:rPr>
              <a:t> відповідальні за розробку судових документів мають</a:t>
            </a: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 пройти підготовку </a:t>
            </a:r>
            <a:r>
              <a:rPr b="0" lang="uk-UA" sz="2800" spc="-1" strike="noStrike">
                <a:solidFill>
                  <a:srgbClr val="000000"/>
                </a:solidFill>
                <a:latin typeface="Trebuchet MS"/>
              </a:rPr>
              <a:t>з</a:t>
            </a: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Trebuchet MS"/>
              </a:rPr>
              <a:t> написання судових документі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Garamond"/>
              </a:rPr>
              <a:t>Необхідні заходи щодо покращення  відносин  судів із засобами масової інформаці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дді –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ають знаходити час на спілкування з ЗМІ щодо справ які вони розглядають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лови судів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инні сприяти створенню атмосфери відкритості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товн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і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да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ти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інформацію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М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іа-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дд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сутній в суді якщо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є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а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ідність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іа-группа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іа-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дд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в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є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ою д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я регулярного обміну досвідом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 питань спілкування із ЗМІ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ціональна судова адміністрація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дповідальн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підготовку суддів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 апарату суд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 питаннь взаємодії із ЗМІ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с-служба Національної судової адміністрації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є відпр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ю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очк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ю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ля журналістів та інших осіб,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к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х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иникли питання з приводу діяльності судів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с-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кретар суду у Швеції -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фіційно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ляти суди і нада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ти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інформацію про діяльність суді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Garamond"/>
              </a:rPr>
              <a:t>Інші заходи для зміцнення довіри в суд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Кращі веб-сайти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Доступ сторін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(учасників процесу)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до інформації про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хід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справи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Електронне діловодство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в суд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Засоби спілкування з громадськістю, відкритий доступ до інформації: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блоги,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рофесійні спільноти тощо.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Більша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відкритість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судової систем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Відвідування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шкі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День відкритих дверей в суді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ipovyi</cp:lastModifiedBy>
  <dcterms:modified xsi:type="dcterms:W3CDTF">2013-08-01T09:24:11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