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F4CA-49D4-446F-B3CD-AC15C77206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D479-4E26-4A15-856A-D3019E9DD2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E427-F078-4691-A002-B7FE0D7B17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7829-0F41-4E78-A115-C411C56D11D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3DF1-F121-4B2A-9A93-52D08D2436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9BBE-756C-4824-B961-9A2858BEC6C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3927-320E-48E9-B44F-3B5DA6A0A65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A5FC-E45D-46D5-A298-9DF392CB551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89C9-E2CE-4966-BF4B-944A8D77CDB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741A-4B11-4DF3-ADEB-02BBEE7A516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AA89-1ADF-4D93-915C-57A6BCE92D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B872-7268-4BE0-A003-B921A17E5AC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61B-FA02-40AE-96AC-7D7C5CF7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158-45AB-4CEF-949A-4743F62D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E99-F899-48FD-8937-EED2575C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6BA-356E-448D-A38F-125AB553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5F6B-FBA1-4610-988A-4F6D4A2F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EDF7-7704-4323-BBC9-0628122B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5D54-E49F-4F54-9167-EC379908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02C0-EF70-431D-98AF-4E6A0E2C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1C38-1B91-41C2-A29C-6E8B78BC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E05B-1EA0-4E04-B30E-71A8AB34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9495-67DC-41F4-B27F-02D1F783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627-F743-4245-A81B-FE53384C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C8C9-8D8D-4C5A-A24C-77DC8CF7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88E9-1AEE-4029-B8FC-659BBD40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DFB9-617E-4E40-8D61-C1ED0E2A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602B-9ED2-474D-8AE0-82C8BF51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42F1-44AB-4BAA-9CBB-1E6ADCEA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19D-28DF-4EC7-8C57-137523E3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163-14B3-4D3C-8235-1448AC9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73F-317D-4E7C-A2F1-4827DFFD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1D1-186C-4FD0-8580-CB3CC6BA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E95-ADB7-4C83-93F0-4EE9374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16B-6A22-49F9-8BA7-348E0DD2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159-9195-4545-B8DF-299008C8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582F-620B-4D14-ABBD-940FEDE99C2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16AC-843E-4E13-889E-C47E302825E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к ми це робим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358120" cy="47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рантовані стандарти ≠ цільовий стандар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ваші обіцянки ≠ вашої ме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а комплекти стандартів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ідносин з клієнт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послуг, що надають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дарти відноси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ітко пояснити клієнтові, що необхідно зробити для того щоб досягти результа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снити, які його права та обов'язки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антувати ввічливий персонал із міжособистісними навичками: дружелюбність, допомога, повага, чуйність до індивідуальних потреб клієнтів, знайомство, пояснювати уважно прислухаючись до клієн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кращуйте власні стандарти відносин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b)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існе надання послуг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(Q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дусім, надання послуг це відповідь на питання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ідомлення ( наявність допомоги в надзвичайних ситуаціях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критості ( листів, форм і публікацій, процеси та іншої інформації про продукт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розумілості (люди з обмеженими можливостями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чності (консультацій, інформації, платежів та порядку заповнення 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повідності (наприклад, придатний для потреб клієнта і умов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d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ість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дення справи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Qo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перервність;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івний доступ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ступні ціни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іальна, культурна та екологічна прийнятні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ли ми це з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єчасність надання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значити, скільки часу клієнт чекатиме  поки послуга буде викона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ількісний 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ідповідь на клієнтські контакти (листи, електронні повідомлення та телефонні повідомлення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обка (реєстрації, заявок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рійної служби (допомогти там, де немає де очікують на послуг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ні служби (наприклад, час, щоб додзвонитися до співробітника, телефон призначень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илюднення скар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к нас знайти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ітко вкажіть всі способи комунікації між судом і громадськіст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іб залишити відгук щодо самої Хартії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ава та обов'язки кліє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оскарження і апеляці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подання скарги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недоторканність приватного життя та конфіденційність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інформаці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доступ до послуг, об'єктів і інформації таким чином, який би відповідав їхнім потребам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анобливе ставлення до працівників суду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нктуальність участі в запланованих засіданнях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гувати на прохання про надання інформації повною мірою та своєчасно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конувати будь-які юридичні вимоги та інші зобов'язання, які клієнти повинні мати для того, щоб виявити право на послугу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ьте відкриті для відгуків та ска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тія надання послуг повинна містити чітку інформацію щодо складання пропозицій та скар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анова вітає відгуки (скарги, похвали і пропозиції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подати скаргу, в тому числі відповідні поштові та електронні адреси і номера телефону і факсу. Включити форми (наприклад, особа, коментар, онлайн відгуки, по телефону, листом, Номер телетайпу для тих, хто глухий, з розладами мови та слуху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дати відгук саме щодо харті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 те, відгук і процес розгляду скарг є доступним, простим у використанні і безкоштовним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д записує дані про кількість скарг, похвал і пропозицій, і ц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овується для поліпшення обслуговування клієнтів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ання установою такої системи подачі скарг і пропозицій не унеможливлює використання клієнтом інших апеляційних механізмів стосовно якості надання послу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6165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іноді ви можете отримати компліменти!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н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2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 розвивати Харт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ю надання по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хема 6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22960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Навчанн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ржавна служба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ан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 державним орган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іє в загальних інтерес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ніверсаль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ля всі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івний досту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днакова ці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онсультативний про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и підготовці хартії, адміністрація суду повинна консультуватися з клієнтами(громадянами), персоналом та іншими ключовими зацікавленими сторонами у зв'язку з: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бором стандартів послуг для включення до хартії;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Налаштування гарантії послуг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значення розміру і рівня деталізації в хартії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рішити, яким чином будуть контролюватися положення хартії та обов'язки її виконавців.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57120" y="5950080"/>
            <a:ext cx="82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Клієнти + Зацікавлені сторони = Поговори з / Зустрінься з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Формат і стиль харт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 Зробити його читабельним і зрозумілим кожном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Спланувати стиль написання презентації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никнути правового жаргон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отка, проста і зручна для користувачів презентація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оступні формат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Переклад на інші мови, окрім українсько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оступні веб-сайти;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Шрифт Брайл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Аудіо запис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рук крупним шрифт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зайн, який відповідає потребам широкої клієнтської бази (наприклад, хороший контраст між фоном і текстом, використання кольору, розміру тексту і зображень без тла під текстом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провадження та поши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учний запуск Міністром або відповідною посадовою особо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мпанія в ЗМІ та  комунікаційна стратегія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ача інформації і розподіл хартії для всіх співробітників, клієнтів і зацікавлених сторін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ширення хартії по всіх можливих контактах клієнта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міщення на веб-сайт Суд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та аналі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артія надання послуг є живим документом живої організац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своєння уроків є одним із засобів поліпшити рівень надання послуг і самої Харт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питай себ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ми дізналися після перших хартій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у нас поліпшилося  за цей час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она як і раніше відображає реальність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ідхід до обслуговування клієнтів судом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треби і пріоритети клієнтів та ключових зацікавлених сторі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сучасне точності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формат, дизайн потребам клієнтів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кі були зібрані відгуки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потрібно вносити зміни в процес розгляду скарг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тандар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ієнтських відгуків і скар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гуків про хартію надання послу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ідповідальност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гляд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826920" y="4653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доповісти!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- це інформаційний пак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що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 що надаються Суд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треб ваших клієнтів та зацікавлених сторі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ний докумен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ява про основні права громадя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принципи, що регулюють надання їм послуг в державних установ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обов'язання, (не правовий докумен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ітко визначає суд, призначення суду, його клієнтської бази та перелік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становлює зв’язок між судом та тими хто ним користує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тановлює клієнтом агентства стандарти обслуговування клієнтів і права та обов'язк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зліч способів отримання зворотного зв'язку та обробки запитів клієнтів і скарг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робляється в ході консультацій з клієнтами, персоналом та іншими ключовими зацікавленими сторон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іодичний моніторинг та огля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о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розор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віт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мір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Комунікаці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ча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ручність для користувач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вчання та підвищенн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включається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Основна інформація стосовно Суду;</a:t>
            </a: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Надяння послуг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Стандарти обслуговування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и зв'язку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а та обов'язки осіб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ідгуки і скарги громадя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то ми такі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кладинка, яка чітко ідентифікує документ як Хартію обслуговування клієнт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і відомості про суд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Перелік персоналу;</a:t>
            </a: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клади зая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ієнтська база (фактична або потенційна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то є зацікавленими сторон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ієнти проти зацікавленої стор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лієнти: ті, кому суд безпосередньо надає послуги (внутрішні + зовнішні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Громадя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Юри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удд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півробіт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'язн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цікавлена сторона: ті хто безпосередньо зацікавлені в успішній діяльності Су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нші урядові установ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бізнес-груп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люди з додатковими або особливими потребам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684360" y="5516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права: спробуйте позначити клієнтів і зацікавлених сторін вашого Суду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ми 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чення (місія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позиція, цілі харт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лік послуг, що надають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ата публікації хартії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та проведення наступного огляд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Місія– це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3:00Z</dcterms:modified>
  <cp:revision>65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