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8008-F4A2-4FCA-8A45-B97948192AE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A10F-AC3A-4C60-92DA-7FB69F3E96A2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6B43-3CFB-474D-A9E4-D0FE8C7A735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92240" y="87480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3120" cy="41796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FÖRKLARINGOCH ARBETSGÅ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Mottagare av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Vem/vilken aktör startar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Delprocess/aktivitet inom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Output,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Input, processens star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Delprocessen/aktivitetens slutresultat (och nästa delprocess/aktivitets inpu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 Informationssamb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Informationssyst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Samband med andra process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Mätpunk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FA8D-A0FC-4554-8E0E-FFC3F0FF1EE8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beho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5C1C-00D5-4F2F-A8AB-CB531EAEE3D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försla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92F5-CBD7-4A5A-9C29-8672DC55F2E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077840" y="863640"/>
            <a:ext cx="4641840" cy="3481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1300" spc="-1" strike="noStrike">
                <a:solidFill>
                  <a:srgbClr val="000000"/>
                </a:solidFill>
                <a:latin typeface="Times New Roman"/>
              </a:rPr>
              <a:t>SVERIGES DOMSTO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A0FE-9EB2-4D41-9E54-C7BB75E2CC52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2C69-EA59-4367-A024-0840D4851108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6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99"/>
                </a:solidFill>
                <a:latin typeface="Garamond"/>
              </a:rPr>
              <a:t>Метод аналізу процесів діловодства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Line 2"/>
          <p:cNvSpPr/>
          <p:nvPr/>
        </p:nvSpPr>
        <p:spPr>
          <a:xfrm flipV="1">
            <a:off x="4179960" y="2711520"/>
            <a:ext cx="1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7604280" y="3679920"/>
            <a:ext cx="2156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1114560" y="364968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457360" y="374328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6954840" y="3559320"/>
            <a:ext cx="2174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1684440" y="356544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797280" y="4257720"/>
            <a:ext cx="2160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405240" y="357660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03840" y="2519280"/>
            <a:ext cx="21888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5064120" y="229536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951600" y="2151000"/>
            <a:ext cx="252360" cy="258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7560720" y="367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080360" y="36482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423520" y="37400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6934320" y="3546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1650240" y="3552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3763440" y="4245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3372120" y="3573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3870360" y="250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5039640" y="2292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6894360" y="21337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3706920" y="2781360"/>
            <a:ext cx="931320" cy="360360"/>
            <a:chOff x="3706920" y="2781360"/>
            <a:chExt cx="931320" cy="360360"/>
          </a:xfrm>
        </p:grpSpPr>
        <p:sp>
          <p:nvSpPr>
            <p:cNvPr id="168" name="Rectangle 24"/>
            <p:cNvSpPr/>
            <p:nvPr/>
          </p:nvSpPr>
          <p:spPr>
            <a:xfrm>
              <a:off x="3706920" y="2781360"/>
              <a:ext cx="931320" cy="3603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3800880" y="2834280"/>
              <a:ext cx="743040" cy="2541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70" name="Rectangle 26"/>
          <p:cNvSpPr/>
          <p:nvPr/>
        </p:nvSpPr>
        <p:spPr>
          <a:xfrm>
            <a:off x="3840120" y="2852640"/>
            <a:ext cx="598680" cy="397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IS Handl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4402080" y="372096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406520" y="3378240"/>
            <a:ext cx="8031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3086280" y="3378240"/>
            <a:ext cx="93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6696000" y="3375000"/>
            <a:ext cx="800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4924440" y="3378240"/>
            <a:ext cx="8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1084320" y="3197160"/>
            <a:ext cx="33660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1059480" y="3214800"/>
            <a:ext cx="38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Lev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7499520" y="3197160"/>
            <a:ext cx="33804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Rectangle 36"/>
          <p:cNvSpPr/>
          <p:nvPr/>
        </p:nvSpPr>
        <p:spPr>
          <a:xfrm>
            <a:off x="7391160" y="3224160"/>
            <a:ext cx="52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Kund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Oval 37"/>
          <p:cNvSpPr/>
          <p:nvPr/>
        </p:nvSpPr>
        <p:spPr>
          <a:xfrm>
            <a:off x="6878520" y="253368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Rectangle 38"/>
          <p:cNvSpPr/>
          <p:nvPr/>
        </p:nvSpPr>
        <p:spPr>
          <a:xfrm>
            <a:off x="6947280" y="250668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Rectangle 39"/>
          <p:cNvSpPr/>
          <p:nvPr/>
        </p:nvSpPr>
        <p:spPr>
          <a:xfrm>
            <a:off x="6977520" y="280980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40"/>
          <p:cNvSpPr/>
          <p:nvPr/>
        </p:nvSpPr>
        <p:spPr>
          <a:xfrm>
            <a:off x="710676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682020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7066080" y="274320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7083360" y="26416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7095960" y="278748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7061040" y="2986200"/>
            <a:ext cx="1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1590840" y="3227400"/>
            <a:ext cx="39672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4184640" y="2711520"/>
            <a:ext cx="10065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Oval 48"/>
          <p:cNvSpPr/>
          <p:nvPr/>
        </p:nvSpPr>
        <p:spPr>
          <a:xfrm>
            <a:off x="1616040" y="250200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684800" y="247500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1715760" y="27781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184500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155772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Oval 53"/>
          <p:cNvSpPr/>
          <p:nvPr/>
        </p:nvSpPr>
        <p:spPr>
          <a:xfrm>
            <a:off x="1803240" y="271152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1820880" y="26100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1833480" y="275580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Line 56"/>
          <p:cNvSpPr/>
          <p:nvPr/>
        </p:nvSpPr>
        <p:spPr>
          <a:xfrm flipH="1">
            <a:off x="1796760" y="2954160"/>
            <a:ext cx="32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01" name="Object 57"/>
          <p:cNvGraphicFramePr/>
          <p:nvPr/>
        </p:nvGraphicFramePr>
        <p:xfrm>
          <a:off x="1692360" y="3068640"/>
          <a:ext cx="14652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068640"/>
                    <a:ext cx="14652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8"/>
          <p:cNvGraphicFramePr/>
          <p:nvPr/>
        </p:nvGraphicFramePr>
        <p:xfrm>
          <a:off x="3941640" y="3044880"/>
          <a:ext cx="10382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1640" y="3044880"/>
                    <a:ext cx="10382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9"/>
          <p:cNvGraphicFramePr/>
          <p:nvPr/>
        </p:nvGraphicFramePr>
        <p:xfrm>
          <a:off x="5692680" y="3044880"/>
          <a:ext cx="103500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2680" y="3044880"/>
                    <a:ext cx="10350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60"/>
          <p:cNvSpPr/>
          <p:nvPr/>
        </p:nvSpPr>
        <p:spPr>
          <a:xfrm>
            <a:off x="32860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50734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Rectangle 62"/>
          <p:cNvSpPr/>
          <p:nvPr/>
        </p:nvSpPr>
        <p:spPr>
          <a:xfrm>
            <a:off x="686124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10" name="Object 63"/>
          <p:cNvGraphicFramePr/>
          <p:nvPr/>
        </p:nvGraphicFramePr>
        <p:xfrm>
          <a:off x="3940200" y="4527720"/>
          <a:ext cx="104616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40200" y="4527720"/>
                    <a:ext cx="10461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Line 64"/>
          <p:cNvSpPr/>
          <p:nvPr/>
        </p:nvSpPr>
        <p:spPr>
          <a:xfrm>
            <a:off x="5580000" y="273060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Line 65"/>
          <p:cNvSpPr/>
          <p:nvPr/>
        </p:nvSpPr>
        <p:spPr>
          <a:xfrm>
            <a:off x="6148440" y="27241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4202280" y="4046400"/>
            <a:ext cx="396720" cy="2732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Svar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Rectangle 67"/>
          <p:cNvSpPr/>
          <p:nvPr/>
        </p:nvSpPr>
        <p:spPr>
          <a:xfrm>
            <a:off x="5154480" y="2602080"/>
            <a:ext cx="3970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Yttrand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8134200" y="2349360"/>
            <a:ext cx="55728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221520" y="2349360"/>
            <a:ext cx="1922400" cy="606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924440" y="2349360"/>
            <a:ext cx="143352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622680" y="2349360"/>
            <a:ext cx="130824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127240" y="2349360"/>
            <a:ext cx="148896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82480" y="2349360"/>
            <a:ext cx="1540080" cy="57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73120" y="2349360"/>
            <a:ext cx="8120160" cy="17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4924440" y="23796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3625920" y="2378160"/>
            <a:ext cx="0" cy="17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128320" y="2373480"/>
            <a:ext cx="180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916520" y="2347920"/>
            <a:ext cx="14842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еобхідність в змінах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533520" y="2349360"/>
            <a:ext cx="15951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ожливості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2296440" y="2343240"/>
            <a:ext cx="9374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слідк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3686040" y="2344680"/>
            <a:ext cx="1187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6361200" y="237348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8137440" y="23670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6926040" y="233208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308400" y="6453360"/>
            <a:ext cx="292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99cc00"/>
                </a:solidFill>
                <a:latin typeface="Arial"/>
              </a:rPr>
              <a:t>Kap5 – Etapp2 – Inrikta processförändring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091120" y="2381400"/>
            <a:ext cx="260028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887560" y="2381400"/>
            <a:ext cx="2195640" cy="542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84240" y="2381400"/>
            <a:ext cx="191304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71640" y="2349360"/>
            <a:ext cx="6715080" cy="25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6391440" y="292428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087880" y="2384280"/>
            <a:ext cx="1800" cy="25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2901960" y="238752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416240" y="2487600"/>
            <a:ext cx="12762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позиції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928960" y="2357280"/>
            <a:ext cx="2071800" cy="64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чікуваний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148360" y="2320920"/>
            <a:ext cx="128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ьогодні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6299280" y="2327400"/>
            <a:ext cx="153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 завтр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982440" y="1773360"/>
            <a:ext cx="461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ка майбутніх процесів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218120" y="4379760"/>
            <a:ext cx="1665000" cy="8766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885960" y="4341960"/>
            <a:ext cx="2373120" cy="8730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26920" y="4317840"/>
            <a:ext cx="7732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облеми </a:t>
            </a:r>
            <a:r>
              <a:rPr b="1" lang="sv-SE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Можливості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Line 7"/>
          <p:cNvSpPr/>
          <p:nvPr/>
        </p:nvSpPr>
        <p:spPr>
          <a:xfrm flipV="1">
            <a:off x="1008000" y="4676400"/>
            <a:ext cx="22510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500120" y="434664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885960" y="4886280"/>
            <a:ext cx="236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885960" y="5064120"/>
            <a:ext cx="23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2100240" y="434196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2616120" y="434664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559520" y="4313160"/>
            <a:ext cx="571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1714680" y="4500720"/>
            <a:ext cx="102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2688480" y="4316400"/>
            <a:ext cx="1009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473280" y="1751040"/>
            <a:ext cx="96552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3757680" y="1722600"/>
            <a:ext cx="176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3362400" y="1844640"/>
            <a:ext cx="944640" cy="89208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376440" y="1925640"/>
            <a:ext cx="1020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 існуючи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29040" y="4572000"/>
            <a:ext cx="9637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4923000" y="4371840"/>
            <a:ext cx="0" cy="88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5408640" y="4376880"/>
            <a:ext cx="0" cy="88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4208400" y="4719600"/>
            <a:ext cx="167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Line 25"/>
          <p:cNvSpPr/>
          <p:nvPr/>
        </p:nvSpPr>
        <p:spPr>
          <a:xfrm>
            <a:off x="4216320" y="4919760"/>
            <a:ext cx="165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4216320" y="5097600"/>
            <a:ext cx="1660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Arc 27"/>
          <p:cNvSpPr/>
          <p:nvPr/>
        </p:nvSpPr>
        <p:spPr>
          <a:xfrm>
            <a:off x="2085840" y="3270240"/>
            <a:ext cx="457200" cy="996840"/>
          </a:xfrm>
          <a:custGeom>
            <a:avLst/>
            <a:gdLst>
              <a:gd name="textAreaLeft" fmla="*/ 0 w 457200"/>
              <a:gd name="textAreaRight" fmla="*/ 457560 w 4572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fill="none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</a:path>
              <a:path stroke="0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  <a:lnTo>
                  <a:pt x="0" y="21275"/>
                </a:lnTo>
                <a:lnTo>
                  <a:pt x="3734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Arc 28"/>
          <p:cNvSpPr/>
          <p:nvPr/>
        </p:nvSpPr>
        <p:spPr>
          <a:xfrm rot="19080000">
            <a:off x="3263760" y="4525560"/>
            <a:ext cx="928800" cy="339840"/>
          </a:xfrm>
          <a:custGeom>
            <a:avLst/>
            <a:gdLst>
              <a:gd name="textAreaLeft" fmla="*/ 0 w 928800"/>
              <a:gd name="textAreaRight" fmla="*/ 929160 w 9288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fill="none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</a:path>
              <a:path stroke="0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Arc 29"/>
          <p:cNvSpPr/>
          <p:nvPr/>
        </p:nvSpPr>
        <p:spPr>
          <a:xfrm>
            <a:off x="4791240" y="3409920"/>
            <a:ext cx="695160" cy="819360"/>
          </a:xfrm>
          <a:custGeom>
            <a:avLst/>
            <a:gdLst>
              <a:gd name="textAreaLeft" fmla="*/ 0 w 695160"/>
              <a:gd name="textAreaRight" fmla="*/ 695520 w 69516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fill="none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</a:path>
              <a:path stroke="0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  <a:lnTo>
                  <a:pt x="21598" y="21600"/>
                </a:lnTo>
                <a:lnTo>
                  <a:pt x="-1" y="21306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7451640" y="4437000"/>
            <a:ext cx="1152720" cy="13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7308720" y="4581360"/>
            <a:ext cx="1347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Передумови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Аналіз процесів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Управління проектом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- Проек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Rectangle 32"/>
          <p:cNvSpPr/>
          <p:nvPr/>
        </p:nvSpPr>
        <p:spPr>
          <a:xfrm>
            <a:off x="1943640" y="1871640"/>
            <a:ext cx="76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раз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33"/>
          <p:cNvSpPr/>
          <p:nvPr/>
        </p:nvSpPr>
        <p:spPr>
          <a:xfrm>
            <a:off x="5276160" y="1744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йбутнє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Arc 34"/>
          <p:cNvSpPr/>
          <p:nvPr/>
        </p:nvSpPr>
        <p:spPr>
          <a:xfrm>
            <a:off x="1397160" y="1981080"/>
            <a:ext cx="339480" cy="324000"/>
          </a:xfrm>
          <a:custGeom>
            <a:avLst/>
            <a:gdLst>
              <a:gd name="textAreaLeft" fmla="*/ 0 w 339480"/>
              <a:gd name="textAreaRight" fmla="*/ 339840 w 339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</a:path>
              <a:path stroke="0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  <a:lnTo>
                  <a:pt x="94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30e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6788160" y="1671480"/>
            <a:ext cx="1041480" cy="90036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Rectangle 36"/>
          <p:cNvSpPr/>
          <p:nvPr/>
        </p:nvSpPr>
        <p:spPr>
          <a:xfrm>
            <a:off x="6686640" y="1757520"/>
            <a:ext cx="100944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6681960" y="1785960"/>
            <a:ext cx="1033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майбутні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Line 41"/>
          <p:cNvSpPr/>
          <p:nvPr/>
        </p:nvSpPr>
        <p:spPr>
          <a:xfrm>
            <a:off x="768240" y="50198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392120" y="468000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774720" y="52196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Line 44"/>
          <p:cNvSpPr/>
          <p:nvPr/>
        </p:nvSpPr>
        <p:spPr>
          <a:xfrm>
            <a:off x="774720" y="5397480"/>
            <a:ext cx="237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Line 45"/>
          <p:cNvSpPr/>
          <p:nvPr/>
        </p:nvSpPr>
        <p:spPr>
          <a:xfrm>
            <a:off x="1990800" y="467532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Line 46"/>
          <p:cNvSpPr/>
          <p:nvPr/>
        </p:nvSpPr>
        <p:spPr>
          <a:xfrm>
            <a:off x="2505240" y="468000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50"/>
          <p:cNvSpPr/>
          <p:nvPr/>
        </p:nvSpPr>
        <p:spPr>
          <a:xfrm>
            <a:off x="4937040" y="4424400"/>
            <a:ext cx="50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Ефект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Rectangle 51"/>
          <p:cNvSpPr/>
          <p:nvPr/>
        </p:nvSpPr>
        <p:spPr>
          <a:xfrm>
            <a:off x="5353560" y="4424400"/>
            <a:ext cx="722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іоритет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93" name="Object 60"/>
          <p:cNvGraphicFramePr/>
          <p:nvPr/>
        </p:nvGraphicFramePr>
        <p:xfrm>
          <a:off x="4600440" y="2238480"/>
          <a:ext cx="1962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2238480"/>
                    <a:ext cx="1962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1"/>
          <p:cNvGrpSpPr/>
          <p:nvPr/>
        </p:nvGrpSpPr>
        <p:grpSpPr>
          <a:xfrm>
            <a:off x="467640" y="1197000"/>
            <a:ext cx="1673640" cy="743040"/>
            <a:chOff x="467640" y="1197000"/>
            <a:chExt cx="1673640" cy="743040"/>
          </a:xfrm>
        </p:grpSpPr>
        <p:sp>
          <p:nvSpPr>
            <p:cNvPr id="296" name="Line 62"/>
            <p:cNvSpPr/>
            <p:nvPr/>
          </p:nvSpPr>
          <p:spPr>
            <a:xfrm>
              <a:off x="1428840" y="1851120"/>
              <a:ext cx="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7" name="Oval 63"/>
            <p:cNvSpPr/>
            <p:nvPr/>
          </p:nvSpPr>
          <p:spPr>
            <a:xfrm>
              <a:off x="981360" y="1473120"/>
              <a:ext cx="369720" cy="311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8" name="AutoShape 64"/>
            <p:cNvSpPr/>
            <p:nvPr/>
          </p:nvSpPr>
          <p:spPr>
            <a:xfrm>
              <a:off x="941760" y="1419120"/>
              <a:ext cx="99720" cy="30240"/>
            </a:xfrm>
            <a:prstGeom prst="parallelogram">
              <a:avLst>
                <a:gd name="adj" fmla="val 8242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9" name="AutoShape 65"/>
            <p:cNvSpPr/>
            <p:nvPr/>
          </p:nvSpPr>
          <p:spPr>
            <a:xfrm>
              <a:off x="1248480" y="1602000"/>
              <a:ext cx="99720" cy="29880"/>
            </a:xfrm>
            <a:prstGeom prst="parallelogram">
              <a:avLst>
                <a:gd name="adj" fmla="val 834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680" bIns="-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0" name="AutoShape 66"/>
            <p:cNvSpPr/>
            <p:nvPr/>
          </p:nvSpPr>
          <p:spPr>
            <a:xfrm>
              <a:off x="1510920" y="1833480"/>
              <a:ext cx="98280" cy="32040"/>
            </a:xfrm>
            <a:prstGeom prst="parallelogram">
              <a:avLst>
                <a:gd name="adj" fmla="val 766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1" name="Line 67"/>
            <p:cNvSpPr/>
            <p:nvPr/>
          </p:nvSpPr>
          <p:spPr>
            <a:xfrm flipV="1">
              <a:off x="990360" y="1455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2" name="Line 68"/>
            <p:cNvSpPr/>
            <p:nvPr/>
          </p:nvSpPr>
          <p:spPr>
            <a:xfrm flipV="1">
              <a:off x="993240" y="13633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3" name="Line 69"/>
            <p:cNvSpPr/>
            <p:nvPr/>
          </p:nvSpPr>
          <p:spPr>
            <a:xfrm>
              <a:off x="1343880" y="1612800"/>
              <a:ext cx="1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4" name="Line 70"/>
            <p:cNvSpPr/>
            <p:nvPr/>
          </p:nvSpPr>
          <p:spPr>
            <a:xfrm flipH="1" flipV="1">
              <a:off x="1562040" y="1690560"/>
              <a:ext cx="2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05" name="Group 71"/>
            <p:cNvGrpSpPr/>
            <p:nvPr/>
          </p:nvGrpSpPr>
          <p:grpSpPr>
            <a:xfrm>
              <a:off x="467640" y="1500120"/>
              <a:ext cx="331200" cy="229320"/>
              <a:chOff x="467640" y="1500120"/>
              <a:chExt cx="331200" cy="229320"/>
            </a:xfrm>
          </p:grpSpPr>
          <p:graphicFrame>
            <p:nvGraphicFramePr>
              <p:cNvPr id="306" name="Object 72"/>
              <p:cNvGraphicFramePr/>
              <p:nvPr/>
            </p:nvGraphicFramePr>
            <p:xfrm>
              <a:off x="485640" y="1508040"/>
              <a:ext cx="263880" cy="214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7" name="Object 7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5640" y="1508040"/>
                        <a:ext cx="263880" cy="21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8" name="Rectangle 73"/>
              <p:cNvSpPr/>
              <p:nvPr/>
            </p:nvSpPr>
            <p:spPr>
              <a:xfrm>
                <a:off x="467640" y="1500120"/>
                <a:ext cx="3312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LEV/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sp>
          <p:nvSpPr>
            <p:cNvPr id="309" name="Line 74"/>
            <p:cNvSpPr/>
            <p:nvPr/>
          </p:nvSpPr>
          <p:spPr>
            <a:xfrm>
              <a:off x="738000" y="160668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10" name="Group 75"/>
            <p:cNvGrpSpPr/>
            <p:nvPr/>
          </p:nvGrpSpPr>
          <p:grpSpPr>
            <a:xfrm>
              <a:off x="1785240" y="1500120"/>
              <a:ext cx="356040" cy="200160"/>
              <a:chOff x="1785240" y="1500120"/>
              <a:chExt cx="356040" cy="200160"/>
            </a:xfrm>
          </p:grpSpPr>
          <p:graphicFrame>
            <p:nvGraphicFramePr>
              <p:cNvPr id="311" name="Object 76"/>
              <p:cNvGraphicFramePr/>
              <p:nvPr/>
            </p:nvGraphicFramePr>
            <p:xfrm>
              <a:off x="1785240" y="1500120"/>
              <a:ext cx="250560" cy="200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2" name="Object 7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85240" y="1500120"/>
                        <a:ext cx="250560" cy="20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3" name="Rectangle 77"/>
              <p:cNvSpPr/>
              <p:nvPr/>
            </p:nvSpPr>
            <p:spPr>
              <a:xfrm>
                <a:off x="1797840" y="1525680"/>
                <a:ext cx="3434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aphicFrame>
          <p:nvGraphicFramePr>
            <p:cNvPr id="314" name="Object 78"/>
            <p:cNvGraphicFramePr/>
            <p:nvPr/>
          </p:nvGraphicFramePr>
          <p:xfrm>
            <a:off x="829080" y="1197000"/>
            <a:ext cx="344520" cy="17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5" name="Object 7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9080" y="1197000"/>
                      <a:ext cx="34452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Object 79"/>
            <p:cNvGraphicFramePr/>
            <p:nvPr/>
          </p:nvGraphicFramePr>
          <p:xfrm>
            <a:off x="843840" y="1522440"/>
            <a:ext cx="347400" cy="17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7" name="Object 7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3840" y="1522440"/>
                      <a:ext cx="34740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80"/>
            <p:cNvGraphicFramePr/>
            <p:nvPr/>
          </p:nvGraphicFramePr>
          <p:xfrm>
            <a:off x="1409760" y="1522440"/>
            <a:ext cx="343080" cy="171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9" name="Object 8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09760" y="1522440"/>
                      <a:ext cx="34308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" name="Line 81"/>
            <p:cNvSpPr/>
            <p:nvPr/>
          </p:nvSpPr>
          <p:spPr>
            <a:xfrm>
              <a:off x="1182240" y="161460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aphicFrame>
          <p:nvGraphicFramePr>
            <p:cNvPr id="321" name="Object 82"/>
            <p:cNvGraphicFramePr/>
            <p:nvPr/>
          </p:nvGraphicFramePr>
          <p:xfrm>
            <a:off x="1088640" y="1763640"/>
            <a:ext cx="350280" cy="176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2" name="Object 8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88640" y="1763640"/>
                      <a:ext cx="35028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" name="Line 83"/>
            <p:cNvSpPr/>
            <p:nvPr/>
          </p:nvSpPr>
          <p:spPr>
            <a:xfrm>
              <a:off x="1747080" y="16099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aphicFrame>
        <p:nvGraphicFramePr>
          <p:cNvPr id="324" name="Object 84"/>
          <p:cNvGraphicFramePr/>
          <p:nvPr/>
        </p:nvGraphicFramePr>
        <p:xfrm>
          <a:off x="1344600" y="2340000"/>
          <a:ext cx="1819440" cy="76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8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44600" y="2340000"/>
                    <a:ext cx="18194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Garamond"/>
              </a:rPr>
              <a:t>Регистрация и распределение уголовного дела</a:t>
            </a:r>
            <a:endParaRPr b="1" lang="en-US" sz="2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8" name="Oval 3"/>
          <p:cNvSpPr/>
          <p:nvPr/>
        </p:nvSpPr>
        <p:spPr>
          <a:xfrm>
            <a:off x="684360" y="1989000"/>
            <a:ext cx="142560" cy="144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79280" y="21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187280" y="1557360"/>
            <a:ext cx="1368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826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262728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108000" y="3860640"/>
            <a:ext cx="122400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108000" y="5229360"/>
            <a:ext cx="122400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носит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1403280" y="3860640"/>
            <a:ext cx="12970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полнени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азы данных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2771640" y="3860640"/>
            <a:ext cx="136872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омощник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2771640" y="5229360"/>
            <a:ext cx="136872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азыгрыва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ребий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4284720" y="3860640"/>
            <a:ext cx="136692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мя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сполни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5796000" y="3860640"/>
            <a:ext cx="1584360" cy="1513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 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еребьевки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7524720" y="3860640"/>
            <a:ext cx="15112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Oval 16"/>
          <p:cNvSpPr/>
          <p:nvPr/>
        </p:nvSpPr>
        <p:spPr>
          <a:xfrm>
            <a:off x="111600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262728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Oval 18"/>
          <p:cNvSpPr/>
          <p:nvPr/>
        </p:nvSpPr>
        <p:spPr>
          <a:xfrm>
            <a:off x="0" y="364500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0" y="5013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133200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Oval 21"/>
          <p:cNvSpPr/>
          <p:nvPr/>
        </p:nvSpPr>
        <p:spPr>
          <a:xfrm>
            <a:off x="2700360" y="371628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6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Oval 22"/>
          <p:cNvSpPr/>
          <p:nvPr/>
        </p:nvSpPr>
        <p:spPr>
          <a:xfrm>
            <a:off x="428472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Oval 23"/>
          <p:cNvSpPr/>
          <p:nvPr/>
        </p:nvSpPr>
        <p:spPr>
          <a:xfrm>
            <a:off x="2556000" y="508464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7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Oval 24"/>
          <p:cNvSpPr/>
          <p:nvPr/>
        </p:nvSpPr>
        <p:spPr>
          <a:xfrm>
            <a:off x="5651640" y="3716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8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Oval 25"/>
          <p:cNvSpPr/>
          <p:nvPr/>
        </p:nvSpPr>
        <p:spPr>
          <a:xfrm>
            <a:off x="7451640" y="3645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1" name="Picture 26" descr="j0234131"/>
          <p:cNvPicPr/>
          <p:nvPr/>
        </p:nvPicPr>
        <p:blipFill>
          <a:blip r:embed="rId1"/>
          <a:stretch/>
        </p:blipFill>
        <p:spPr>
          <a:xfrm>
            <a:off x="684360" y="1484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27"/>
          <p:cNvSpPr/>
          <p:nvPr/>
        </p:nvSpPr>
        <p:spPr>
          <a:xfrm>
            <a:off x="4140360" y="155736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пециалис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ередае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дело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ю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4140360" y="263700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ь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заводи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таткарточку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AutoShape 29"/>
          <p:cNvSpPr/>
          <p:nvPr/>
        </p:nvSpPr>
        <p:spPr>
          <a:xfrm>
            <a:off x="565164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таткарточк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Oval 30"/>
          <p:cNvSpPr/>
          <p:nvPr/>
        </p:nvSpPr>
        <p:spPr>
          <a:xfrm>
            <a:off x="406728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Oval 31"/>
          <p:cNvSpPr/>
          <p:nvPr/>
        </p:nvSpPr>
        <p:spPr>
          <a:xfrm>
            <a:off x="4067280" y="2492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Oval 32"/>
          <p:cNvSpPr/>
          <p:nvPr/>
        </p:nvSpPr>
        <p:spPr>
          <a:xfrm>
            <a:off x="565164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Line 33"/>
          <p:cNvSpPr/>
          <p:nvPr/>
        </p:nvSpPr>
        <p:spPr>
          <a:xfrm>
            <a:off x="2556000" y="20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Line 34"/>
          <p:cNvSpPr/>
          <p:nvPr/>
        </p:nvSpPr>
        <p:spPr>
          <a:xfrm>
            <a:off x="3995640" y="20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Line 35"/>
          <p:cNvSpPr/>
          <p:nvPr/>
        </p:nvSpPr>
        <p:spPr>
          <a:xfrm>
            <a:off x="4859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1" name="AutoShape 36"/>
          <p:cNvCxnSpPr>
            <a:stCxn id="353" idx="3"/>
            <a:endCxn id="354" idx="2"/>
          </p:cNvCxnSpPr>
          <p:nvPr/>
        </p:nvCxnSpPr>
        <p:spPr>
          <a:xfrm flipV="1">
            <a:off x="5508360" y="2491920"/>
            <a:ext cx="827640" cy="61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37"/>
          <p:cNvSpPr/>
          <p:nvPr/>
        </p:nvSpPr>
        <p:spPr>
          <a:xfrm>
            <a:off x="680400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Line 38"/>
          <p:cNvSpPr/>
          <p:nvPr/>
        </p:nvSpPr>
        <p:spPr>
          <a:xfrm flipH="1">
            <a:off x="539280" y="3645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Line 39"/>
          <p:cNvSpPr/>
          <p:nvPr/>
        </p:nvSpPr>
        <p:spPr>
          <a:xfrm>
            <a:off x="5396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611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6" name="AutoShape 41"/>
          <p:cNvCxnSpPr>
            <a:stCxn id="334" idx="3"/>
            <a:endCxn id="335" idx="2"/>
          </p:cNvCxnSpPr>
          <p:nvPr/>
        </p:nvCxnSpPr>
        <p:spPr>
          <a:xfrm flipV="1">
            <a:off x="1332000" y="4868640"/>
            <a:ext cx="72144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Line 42"/>
          <p:cNvSpPr/>
          <p:nvPr/>
        </p:nvSpPr>
        <p:spPr>
          <a:xfrm>
            <a:off x="2700360" y="4365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3492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9" name="AutoShape 44"/>
          <p:cNvCxnSpPr>
            <a:stCxn id="337" idx="3"/>
            <a:endCxn id="338" idx="2"/>
          </p:cNvCxnSpPr>
          <p:nvPr/>
        </p:nvCxnSpPr>
        <p:spPr>
          <a:xfrm flipV="1">
            <a:off x="4140000" y="4868640"/>
            <a:ext cx="82908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Line 45"/>
          <p:cNvSpPr/>
          <p:nvPr/>
        </p:nvSpPr>
        <p:spPr>
          <a:xfrm>
            <a:off x="5651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738036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9036000" y="43657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Досвід Росії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елегування повноважень Голови Суду, Заступників та Суддів апарату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удді сфокусовані на процесі судочинства, а не на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овсякденних задачах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вага приділяється місцевому рівню, удосконаленню процесів діловодства та розвитку особистост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ується доступність суду для громадян без перешкод для роботи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прощення процесу  подання документів та сплати судових витрат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ийом громадян здійснює помічник судді, а не судд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кількості скарг від відвідувачів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оступ до Інтернет ресурсів з судовими рішенням та корисною інформацією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ення кількості професійних публікацій в ЗМІ щодо судових рішен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страху щодо процесу делегуванн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впровадження посібників та навчання персоналу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ізні завдання виконуються по-різному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офесійні навички та потенціал апарату суду стає пріоритетом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571680" y="142884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Picture 4" descr="DSC_0016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Picture 4" descr="DSC_0018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Суддя не повинен бачити справу раніше ніж день засідання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84360" y="1413000"/>
            <a:ext cx="1191960" cy="939600"/>
          </a:xfrm>
          <a:prstGeom prst="rightArrow">
            <a:avLst>
              <a:gd name="adj1" fmla="val 50000"/>
              <a:gd name="adj2" fmla="val 3171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еєстраці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908000" y="141300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озподіл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122640" y="143820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ідготовка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о слуха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481640" y="140328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Засідання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луханн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и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688000" y="139536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рийнятт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іше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6932520" y="140976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одальший рух</a:t>
            </a: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арх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4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Процеси діловодства в суді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2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Основні процес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06440" y="198108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підготовк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406440" y="297180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 розподілу спра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406440" y="3962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експедиції/  Процес здачі в арх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06440" y="5105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зовнішнього інформ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96000" y="490680"/>
            <a:ext cx="21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084720" y="1197000"/>
            <a:ext cx="2880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Для кого</a:t>
            </a:r>
            <a:r>
              <a:rPr b="1" lang="sv-SE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зацікавлена       особ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(стейкхолдер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Під-процеси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1125360"/>
            <a:ext cx="500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нутрішній стейкхолдер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Клієнт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29280" y="2193840"/>
            <a:ext cx="1909800" cy="349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Д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ова     адміністраці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          СУСПІЛЬСТВ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06440" y="1981080"/>
            <a:ext cx="7045200" cy="762120"/>
          </a:xfrm>
          <a:prstGeom prst="rightArrow">
            <a:avLst>
              <a:gd name="adj1" fmla="val 50000"/>
              <a:gd name="adj2" fmla="val 23153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 справ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лан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406440" y="2971800"/>
            <a:ext cx="7072200" cy="762120"/>
          </a:xfrm>
          <a:prstGeom prst="rightArrow">
            <a:avLst>
              <a:gd name="adj1" fmla="val 50000"/>
              <a:gd name="adj2" fmla="val 23242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повідь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лухання справи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ве засіданн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ідтримка судд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428760" y="4000680"/>
            <a:ext cx="6786360" cy="761760"/>
          </a:xfrm>
          <a:prstGeom prst="rightArrow">
            <a:avLst>
              <a:gd name="adj1" fmla="val 50000"/>
              <a:gd name="adj2" fmla="val 23253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и адміністрування (управління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06440" y="4876920"/>
            <a:ext cx="7072200" cy="761760"/>
          </a:xfrm>
          <a:prstGeom prst="rightArrow">
            <a:avLst>
              <a:gd name="adj1" fmla="val 50000"/>
              <a:gd name="adj2" fmla="val 23253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віта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389480" cy="4263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773280" y="1000080"/>
            <a:ext cx="3798720" cy="48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Кожен процес можна розділити на основні процеси та під-процес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Завжди прочинайте з основних процесів щоб отримати повну картин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уйте процеси зверху-вниз (від основних процесів до під-процесів та складових компонентів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евна кількість пов'язаних  дій з чітким визначенням початку та кінця  і є процес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 процесу - це розподіл його на під-процеси та компонент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268280"/>
          <a:ext cx="8362800" cy="4525920"/>
        </p:xfrm>
        <a:graphic>
          <a:graphicData uri="http://schemas.openxmlformats.org/drawingml/2006/table">
            <a:tbl>
              <a:tblPr/>
              <a:tblGrid>
                <a:gridCol w="1378080"/>
                <a:gridCol w="1224000"/>
                <a:gridCol w="3348000"/>
                <a:gridCol w="1141200"/>
                <a:gridCol w="1271520"/>
              </a:tblGrid>
              <a:tr h="596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ачальник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зи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ра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це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ішення суд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ієнт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му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90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0080" y="476280"/>
            <a:ext cx="815004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2920" y="1988640"/>
            <a:ext cx="208764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Лист для перевір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826920" y="2492280"/>
          <a:ext cx="171936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17193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2771640" y="3933720"/>
            <a:ext cx="3961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Невеличка робоча група (4-10 осіб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627280" y="292428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бладнання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фліп-чарт, бумаг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лівці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771640" y="34290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риміщення ( зал, кабінет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771640" y="429264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В робочій групі повинні бути представники всіх залучених до процесу підрозділ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2771640" y="494172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Співпраця з  керівникам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19:44Z</dcterms:modified>
  <cp:revision>397</cp:revision>
  <dc:subject/>
  <dc:title>Sveriges Domstolar</dc:title>
</cp:coreProperties>
</file>