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DCA2-B61D-4BC0-A75A-BF348BBB195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91DA-6DD4-49C9-A35E-2D40074CCDA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B784-696F-4581-B6C1-781D2A63B74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C1DC-3353-4DEC-B0D2-61AE7FF4FEC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ell, you have probably seen the film “Angels and Demo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1468-8600-47FA-94F2-0E60B382D610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FC56-1D1A-411C-BFD9-EFE4615C34C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FDA3-FFDF-44E8-B91D-4350A3734CD0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7AB9-F774-443B-B853-E2058C2464B1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39CC-0AC8-4E44-85FE-5AF535AF3DF1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EF60-9BDF-4BD9-B463-D736BF2758C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8BB3-2F6D-4016-8AE5-3208CF9EC4B3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DBDB-4FDC-4DD2-9CE7-FF6CCEEB2F1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1729-27CD-4FCB-91F4-AAE85DDB529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1D70-B064-4F5A-9F9A-3AE4617E05F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0313-3A6E-4484-8926-F152111E02A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B427-6DE1-44E2-A52F-85129EDC0113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048A-0FE8-4388-BDE2-320B6E51CB6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E505-B1F9-462E-B739-7C755ED28A3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DB3C-1587-46CF-ADB0-8959ADE68BD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E666-191B-4053-9418-C31499F1C51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D9F8-8D64-44F0-87F8-65DBA47B7080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BACC-D9DD-442F-BF71-DE60A3BC35B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3DA7-BAC1-464F-93CF-E798FA2E9522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3DF5-8C08-4D00-A7EF-611E837A86E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05B-A2E1-43B4-917D-7C28729C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C45-48E9-4050-988D-B2D728D9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22D-19AD-4104-98ED-DB9FFA6B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DC45-7331-4FE4-8EDF-B1EE0DAB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1B4E-3A16-4EB4-8F5F-704A4B10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6D74-1E4B-47C8-98F1-9FAFFB3C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1637-88E3-4170-9013-54FB9782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34FE-65A8-42C4-9258-A46F0BA5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BDE7-AC42-45A8-AF3A-4248E9BB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9314-EE22-48DE-8BA0-E44974AA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80A4-D6C4-48EE-8520-C59ACEDD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3F4-F81E-4990-B0F1-5D433050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BD8F-2E54-4511-BF72-F4F7B6DB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65FD-3336-4D75-BFB2-99A7C955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A743-D634-4DE0-AFC2-0601325F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18C1-1297-43A1-AFE3-8595645F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5A69-9602-44B8-B137-30BA760A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9359-0C11-4E5C-B9F5-338C0F65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C2C-C01C-4FEC-89EC-72F6F7E7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269-FBAF-447D-B07C-389A40A8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65B-080B-4891-98DB-715D9935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C55-9601-452D-85FA-31FA388E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512B-FB50-4F44-99DC-EF80E776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111-6AA8-43DE-931F-FA892900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7C0B-AD12-45BC-8D61-3C51B9489012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7036-D81F-44AD-96D3-C7DFABDDCD57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ribsorvroma.wordpress.com/" TargetMode="External"/><Relationship Id="rId2" Type="http://schemas.openxmlformats.org/officeDocument/2006/relationships/hyperlink" Target="http://twitter.com/tribsorv" TargetMode="External"/><Relationship Id="rId3" Type="http://schemas.openxmlformats.org/officeDocument/2006/relationships/hyperlink" Target="http://www.flickr.com/photos/46730249@N02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ff99"/>
                </a:solidFill>
                <a:latin typeface="Arial"/>
              </a:rPr>
              <a:t>Система судоустрою Італії</a:t>
            </a:r>
            <a:br>
              <a:rPr sz="2400"/>
            </a:br>
            <a:endParaRPr b="0" lang="en-US" sz="2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364000" y="1484280"/>
            <a:ext cx="3780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y Dario Quintavalle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ior Executiv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nistry of Justice, Ita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urt Manager of th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rveillance Court of Ro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7" descr="quadriga"/>
          <p:cNvPicPr/>
          <p:nvPr/>
        </p:nvPicPr>
        <p:blipFill>
          <a:blip r:embed="rId1"/>
          <a:stretch/>
        </p:blipFill>
        <p:spPr>
          <a:xfrm>
            <a:off x="324000" y="1781280"/>
            <a:ext cx="6962760" cy="50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Surveillance Justic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eillance Court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ribunale di Sorveglianz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operates as a court of first instance, and as a court of appeal towards the decisions of the Surveillance Jud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urveillance Judge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gistrato di Sorveglianz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is a judge of first instan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eillance Court: 4 members = 2 judges + 2 experts (psychology, social services, education, psychiatry and clinical criminology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Surveillance Court of Ro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88" name="Picture 7" descr="DSC04275p"/>
          <p:cNvPicPr/>
          <p:nvPr/>
        </p:nvPicPr>
        <p:blipFill>
          <a:blip r:embed="rId1"/>
          <a:stretch/>
        </p:blipFill>
        <p:spPr>
          <a:xfrm>
            <a:off x="324000" y="1628640"/>
            <a:ext cx="860400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Surveillance Court of Ro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300720" y="1628640"/>
            <a:ext cx="2843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rveillance Court of Rome is the court competent on nationwide level on appeals against the anti-Mafia prison regim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6" descr="DSC09219"/>
          <p:cNvPicPr/>
          <p:nvPr/>
        </p:nvPicPr>
        <p:blipFill>
          <a:blip r:embed="rId1"/>
          <a:stretch/>
        </p:blipFill>
        <p:spPr>
          <a:xfrm>
            <a:off x="250920" y="177336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Be our friend…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580000" y="1628280"/>
            <a:ext cx="3564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: </a:t>
            </a:r>
            <a:r>
              <a:rPr b="0" lang="en-US" sz="2400" spc="-1" strike="noStrike" u="sng">
                <a:solidFill>
                  <a:srgbClr val="ddd800"/>
                </a:solidFill>
                <a:uFillTx/>
                <a:latin typeface="Tahoma"/>
                <a:hlinkClick r:id="rId1"/>
              </a:rPr>
              <a:t>http://tribsorvroma.wordpress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ebook: Tribunale di Sorveglianza di Ro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itter: </a:t>
            </a:r>
            <a:r>
              <a:rPr b="0" lang="en-US" sz="2400" spc="-1" strike="noStrike" u="sng">
                <a:solidFill>
                  <a:srgbClr val="ddd800"/>
                </a:solidFill>
                <a:uFillTx/>
                <a:latin typeface="Tahoma"/>
                <a:hlinkClick r:id="rId2"/>
              </a:rPr>
              <a:t>http://twitter.com/tribsor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ickr: </a:t>
            </a:r>
            <a:r>
              <a:rPr b="0" lang="en-US" sz="2400" spc="-1" strike="noStrike" u="sng">
                <a:solidFill>
                  <a:srgbClr val="ddd800"/>
                </a:solidFill>
                <a:uFillTx/>
                <a:latin typeface="Tahoma"/>
                <a:hlinkClick r:id="rId3"/>
              </a:rPr>
              <a:t>http://www.flickr.com/photos/46730249@N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5" descr="pan"/>
          <p:cNvPicPr/>
          <p:nvPr/>
        </p:nvPicPr>
        <p:blipFill>
          <a:blip r:embed="rId4"/>
          <a:stretch/>
        </p:blipFill>
        <p:spPr>
          <a:xfrm>
            <a:off x="179280" y="1773360"/>
            <a:ext cx="5400720" cy="44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ourt Governanc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upreme Council of Judg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ired by the President of the Re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ed by all Magistr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oints Chief Judges and Prosecu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as disciplinary court for Jud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Ministry of Justic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ruitment of Magistrates, Barristers, Notaries, Court Cle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main departme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Administ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son Administ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venile Justice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tics of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0.000 employ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ourt Administrators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s of the Ministry of Jus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harge of Human Resources, Organization, Financ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 to evaluation by the M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empowered until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1. Fight against organized cri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main criminal organization (MAF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 crime: “Mafia-style associatio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: National Direction Anti-maf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NA: National Procuror Anti-mafia under surveillance of the General Prosecutor of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ulse and co-ordination of OC investig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DA: District Direction Anti-mafia (2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: interforce Anti-mafia police agenc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2. Fight against organized cri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2560" y="162864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1-bis prison regime: mafia + terrorism +dru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the use of the telephone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all association or correspondence with other prisoner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meetings with third parti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trictions on visits from members of the family (once per month and visitors are only allowed to communicate by intercom through thick glass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receiving or sending sums of money over a set amount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organizing cultural, recreational or sporting activiti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voting or standing in elections for prisoner representativ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taking part in arts-and-crafts activi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3. Fight against organized cri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206" name="Picture 5" descr="arresto_provenzano"/>
          <p:cNvPicPr/>
          <p:nvPr/>
        </p:nvPicPr>
        <p:blipFill>
          <a:blip r:embed="rId1"/>
          <a:stretch/>
        </p:blipFill>
        <p:spPr>
          <a:xfrm>
            <a:off x="250920" y="1989000"/>
            <a:ext cx="4389480" cy="3854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rveillance Court of Rome is the court competent on nationwide level on appeals against the 41-bis decre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iscation of all assets and destination to social ut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About Italy 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ted country since 186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democratic republic since 194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 and NATO founding memb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largest GDP in the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° best health care system in the world (WH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radle of Law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University in the world (Law School of Bologna 108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country to abolish death penalty (178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rojust m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Ongoing Problems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41264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zed Cr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Corru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anent conflict between politics and judici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ssive number of civil proceedings pending (5 million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ssive length of Criminal Proceedings = several condemnations by ECH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mbersome legislation (20.000 laws) under cod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e most important Italian contribution to the Ukrainian Judiciary so far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presso Coffee machines !  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212" name="Picture 5" descr="coffeemachine"/>
          <p:cNvPicPr/>
          <p:nvPr/>
        </p:nvPicPr>
        <p:blipFill>
          <a:blip r:embed="rId1"/>
          <a:stretch/>
        </p:blipFill>
        <p:spPr>
          <a:xfrm>
            <a:off x="1692360" y="1413000"/>
            <a:ext cx="5740200" cy="52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Questions? and Answers!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214" name="Picture 5" descr="puntoint"/>
          <p:cNvPicPr/>
          <p:nvPr/>
        </p:nvPicPr>
        <p:blipFill>
          <a:blip r:embed="rId1"/>
          <a:stretch/>
        </p:blipFill>
        <p:spPr>
          <a:xfrm>
            <a:off x="1187280" y="1700280"/>
            <a:ext cx="69850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Population and Immigration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65" name="Picture 5" descr="Stranieri_in_Italia_2008"/>
          <p:cNvPicPr/>
          <p:nvPr/>
        </p:nvPicPr>
        <p:blipFill>
          <a:blip r:embed="rId1"/>
          <a:stretch/>
        </p:blipFill>
        <p:spPr>
          <a:xfrm>
            <a:off x="324000" y="2924280"/>
            <a:ext cx="8604000" cy="3744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324000" y="1197000"/>
            <a:ext cx="842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0.000.000 peo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million immigr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 300.000 Ukrainians ( “Badanti” = caring ladi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Governance and Rule of Law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liament bi-came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pendent Judici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nt of the Republ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Mini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 Reg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te La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 Decr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ministrative regul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Law (not in Civil and Criminal matter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Jurisdictions 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32000" y="1599840"/>
            <a:ext cx="375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al Cou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dinary (Civil and Crimin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ministrati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Account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lit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sc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19" descr="giudici"/>
          <p:cNvPicPr/>
          <p:nvPr/>
        </p:nvPicPr>
        <p:blipFill>
          <a:blip r:embed="rId1"/>
          <a:stretch/>
        </p:blipFill>
        <p:spPr>
          <a:xfrm>
            <a:off x="179280" y="1700280"/>
            <a:ext cx="4608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Magistrate Body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000 ca. (+ 3500 honorary judg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pendent and self-gover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secutors + Jud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ected by public compet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eer progression by senio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reputation and presti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7 magistrates killed (1969 – 199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8" descr="falcone_borsellino"/>
          <p:cNvPicPr/>
          <p:nvPr/>
        </p:nvPicPr>
        <p:blipFill>
          <a:blip r:embed="rId1"/>
          <a:stretch/>
        </p:blipFill>
        <p:spPr>
          <a:xfrm>
            <a:off x="4284720" y="1700280"/>
            <a:ext cx="4608360" cy="3124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4427640" y="5300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Giovanni Falcone - Paolo Borselli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99"/>
                </a:solidFill>
                <a:latin typeface="Arial"/>
              </a:rPr>
              <a:t>The Court System </a:t>
            </a:r>
            <a:br>
              <a:rPr sz="4000"/>
            </a:br>
            <a:r>
              <a:rPr b="0" lang="en-US" sz="4000" spc="-1" strike="noStrike">
                <a:solidFill>
                  <a:srgbClr val="ccff99"/>
                </a:solidFill>
                <a:latin typeface="Arial"/>
              </a:rPr>
              <a:t>(Civil + Criminal)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Cass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App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First Insta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ice of Pe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Public Prosecutor at the Court of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Public Prosecutor at the Court of App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Prosecu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33"/>
          <p:cNvSpPr/>
          <p:nvPr/>
        </p:nvSpPr>
        <p:spPr>
          <a:xfrm>
            <a:off x="4859280" y="5229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secutors dispose of special section of Police (Judiciary Police), co-ordinate investigations  and promote criminal 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Justice system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ght to have 3 hearings, until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ruling is definitive and executive before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Cassation rules out, new hear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eal are new judgments and not revision of the precedent ruling 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ovum judici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jury trial but most serious cases heard by a Court of Assize composed of two professional judges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iudici Togat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six lay judges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iudici Popolar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Surveillance Courts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0.000 people in jail (1/2 of them foreigners… but very few Ukrainians!), frequent amnes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 forbids non-humane treat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 superintend on the whole correctional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ides on probation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forcement of verdict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ernative san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urity meas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5:13:54Z</dcterms:created>
  <dc:creator>pippo</dc:creator>
  <dc:description/>
  <dc:language>en-US</dc:language>
  <cp:lastModifiedBy>lipovyi</cp:lastModifiedBy>
  <dcterms:modified xsi:type="dcterms:W3CDTF">2013-08-01T09:24:54Z</dcterms:modified>
  <cp:revision>41</cp:revision>
  <dc:subject/>
  <dc:title>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1</vt:r8>
  </property>
</Properties>
</file>