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EFD4-9ACD-49C9-BB40-3A6BCAE9FFB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EEFA-620F-4188-BEA3-320F0A5F4DA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80DA-02B2-4219-B3B0-E7C36D1B303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BC90-9DDA-4E75-B78D-39E7B1FFB33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ell, you have probably seen the film “Angels and Demo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AB44-3717-4A37-9646-CA2CDE45F7B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7FAE-14AE-4DBA-8041-71FAFD1E1E8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4CD6-C8F5-4391-871A-0005F590CF7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EE03-1CCF-4882-9B2D-048E8067A12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831D-96FA-4A3D-96E4-B5150252F3D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B430-A35D-4EA6-8F06-79C61108393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022D-4A19-4CFB-9A47-84279A587FA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298B-A369-4D32-84D6-627DFCD88CE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39A1-48FE-4BFA-AA3A-CBA2CFB39A8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C7FB-FB96-4533-8CAF-DB3DB9A128E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BD21-9661-4031-A758-0851FC04F9D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43D8-56A6-41CE-B5A4-C0FCCB71673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C3D4-70A5-4C1B-B5C1-7D21305F806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3FC1-06D9-4DC8-B937-7C160C21472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6CE4-3319-4916-81FE-08E485CA2D4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4D6F-6FC9-4C24-B7E2-7475106668C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80DC-5127-430E-8797-81B93D2A008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20A2-E98C-41B5-965D-0FE5DFBB6FE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4216-2DBE-43E0-8696-16E38A6CC5C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06B8-A2C6-420A-BED2-374A5B2A101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150-47DD-4AD2-81A3-B419C0ED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C71-33A4-4025-BC5B-6A85E3C9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3570-C98F-428C-AB23-2F1FDEAF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AF0F-312C-4BA7-A03F-DF97D13D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92F5-777C-4847-B668-2C2C82E0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0A44-D543-409C-999F-BD5362A8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BBE1-8F58-45A2-929B-38CE160C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48E4-3926-4DAB-ABD5-3A178FCF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84FB-D94A-4FB4-8215-4BE72AF7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8AA9-2463-4987-B4C4-01E12D63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5DBC-F8BF-4F03-B35B-3002751E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2EE-4EF8-4969-9288-2EC575BD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F464-BC8B-48E4-932A-5C3D9EA6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288C-E3CD-488C-837D-36270AB4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DDDA-B06A-47BF-A496-89244867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B78F-55DA-4913-87FB-0B2AC896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1B90-6BAC-4860-9DCE-11B989F8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B2C-5E00-495F-B403-10974E27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3D8-C93A-4650-B178-81088240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2F5-2EF7-477E-AA35-AC0D8A86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19F-D890-4803-B8E2-4EB1D07E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D4C-AE02-4CE8-AB5C-F1D7AAC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216-5146-441C-AC20-D1516E25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F05-2E9D-4A9B-A6EF-815B1FB4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E6F7-A109-452C-ABB2-6C1EC148E1AF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9577-451A-47A6-B6B8-E397D8EF40D8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ribsorvroma.wordpress.com/" TargetMode="External"/><Relationship Id="rId2" Type="http://schemas.openxmlformats.org/officeDocument/2006/relationships/hyperlink" Target="http://twitter.com/tribsorv" TargetMode="External"/><Relationship Id="rId3" Type="http://schemas.openxmlformats.org/officeDocument/2006/relationships/hyperlink" Target="http://www.flickr.com/photos/46730249@N02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ff99"/>
                </a:solidFill>
                <a:latin typeface="Arial"/>
              </a:rPr>
              <a:t>Система судоустрою Італії</a:t>
            </a:r>
            <a:br>
              <a:rPr sz="2400"/>
            </a:br>
            <a:endParaRPr b="0" lang="en-US" sz="2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64000" y="1484280"/>
            <a:ext cx="3780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y Dario Quintavalle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ior Executiv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nistry of Justice, Ita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urt Manager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rveillance Court of Ro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quadriga"/>
          <p:cNvPicPr/>
          <p:nvPr/>
        </p:nvPicPr>
        <p:blipFill>
          <a:blip r:embed="rId1"/>
          <a:stretch/>
        </p:blipFill>
        <p:spPr>
          <a:xfrm>
            <a:off x="324000" y="1781280"/>
            <a:ext cx="696276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Surveillance Justi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illance Court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ribunale di Sorveglianz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operates as a court of first instance, and as a court of appeal towards the decisions of the Surveillance Jud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urveillance Judge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gistrato di Sorveglianz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is a judge of first instan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illance Court: 4 members = 2 judges + 2 experts (psychology, social services, education, psychiatry and clinical criminology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 of Ro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88" name="Picture 7" descr="DSC04275p"/>
          <p:cNvPicPr/>
          <p:nvPr/>
        </p:nvPicPr>
        <p:blipFill>
          <a:blip r:embed="rId1"/>
          <a:stretch/>
        </p:blipFill>
        <p:spPr>
          <a:xfrm>
            <a:off x="324000" y="1628640"/>
            <a:ext cx="86040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 of Ro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00720" y="1628640"/>
            <a:ext cx="28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rveillance Court of Rome is the court competent on nationwide level on appeals against the anti-Mafia prison regim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6" descr="DSC09219"/>
          <p:cNvPicPr/>
          <p:nvPr/>
        </p:nvPicPr>
        <p:blipFill>
          <a:blip r:embed="rId1"/>
          <a:stretch/>
        </p:blipFill>
        <p:spPr>
          <a:xfrm>
            <a:off x="250920" y="177336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Be our friend…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580000" y="1628280"/>
            <a:ext cx="356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1"/>
              </a:rPr>
              <a:t>http://tribsorvroma.wordpress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ebook: Tribunale di Sorveglianza di Ro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itter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2"/>
              </a:rPr>
              <a:t>http://twitter.com/tribsor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ickr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3"/>
              </a:rPr>
              <a:t>http://www.flickr.com/photos/46730249@N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5" descr="pan"/>
          <p:cNvPicPr/>
          <p:nvPr/>
        </p:nvPicPr>
        <p:blipFill>
          <a:blip r:embed="rId4"/>
          <a:stretch/>
        </p:blipFill>
        <p:spPr>
          <a:xfrm>
            <a:off x="179280" y="1773360"/>
            <a:ext cx="5400720" cy="44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ourt Governan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upreme Council of Judg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ired by the President of the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ed by all Magistr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ints Chief Judges and Prosecu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as disciplinary court for Jud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Ministry of Justi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ruitment of Magistrates, Barristers, Notaries, Court Cle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main depart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Administ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son Adminis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Justice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tics of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0.000 employ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ourt Administrator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s of the Ministry of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harge of Human Resources, Organization, Financ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 to evaluation by the M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empowered until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1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main criminal organization (MAF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crime: “Mafia-style associat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: National Direction Anti-maf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NA: National Procuror Anti-mafia under surveillance of the General Prosecutor of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ulse and co-ordination of OC investig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DA: District Direction Anti-mafia (2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: interforce Anti-mafia police agenc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2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256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1-bis prison regime: mafia + terrorism +dru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the use of the telephone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all association or correspondence with other prisoner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meetings with third parti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trictions on visits from members of the family (once per month and visitors are only allowed to communicate by intercom through thick glass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receiving or sending sums of money over a set amount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organizing cultural, recreational or sporting activiti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voting or standing in elections for prisoner representativ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taking part in arts-and-crafts activ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3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06" name="Picture 5" descr="arresto_provenzano"/>
          <p:cNvPicPr/>
          <p:nvPr/>
        </p:nvPicPr>
        <p:blipFill>
          <a:blip r:embed="rId1"/>
          <a:stretch/>
        </p:blipFill>
        <p:spPr>
          <a:xfrm>
            <a:off x="250920" y="1989000"/>
            <a:ext cx="4389480" cy="385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rveillance Court of Rome is the court competent on nationwide level on appeals against the 41-bis decre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scation of all assets and destination to social ut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About Italy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ed country since 186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emocratic republic since 194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 and NATO founding mem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largest GDP in the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° best health care system in the world (WH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radle of Law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University in the world (Law School of Bologna 108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ountry to abolish death penalty (178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just 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Ongoing Problem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ed Cr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Corru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anent conflict between politics and judici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ssive number of civil proceedings pending (5 million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ssive length of Criminal Proceedings = several condemnations by ECH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mbersome legislation (20.000 laws) under cod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most important Italian contribution to the Ukrainian Judiciary so far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presso Coffee machines !  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12" name="Picture 5" descr="coffeemachine"/>
          <p:cNvPicPr/>
          <p:nvPr/>
        </p:nvPicPr>
        <p:blipFill>
          <a:blip r:embed="rId1"/>
          <a:stretch/>
        </p:blipFill>
        <p:spPr>
          <a:xfrm>
            <a:off x="1692360" y="1413000"/>
            <a:ext cx="5740200" cy="52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Questions? and Answers!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14" name="Picture 5" descr="puntoint"/>
          <p:cNvPicPr/>
          <p:nvPr/>
        </p:nvPicPr>
        <p:blipFill>
          <a:blip r:embed="rId1"/>
          <a:stretch/>
        </p:blipFill>
        <p:spPr>
          <a:xfrm>
            <a:off x="1187280" y="170028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Population and Immigration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65" name="Picture 5" descr="Stranieri_in_Italia_2008"/>
          <p:cNvPicPr/>
          <p:nvPr/>
        </p:nvPicPr>
        <p:blipFill>
          <a:blip r:embed="rId1"/>
          <a:stretch/>
        </p:blipFill>
        <p:spPr>
          <a:xfrm>
            <a:off x="324000" y="2924280"/>
            <a:ext cx="8604000" cy="3744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324000" y="1197000"/>
            <a:ext cx="842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.000.000 peo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million immigr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 300.000 Ukrainians ( “Badanti” = caring ladi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Governance and Rule of Law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bi-cam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pendent Judici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 of the Republ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Mini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 Reg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te La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Decr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nistrative regu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Law (not in Civil and Criminal matte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Jurisdictions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32000" y="15998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Cou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inary (Civil and Crimin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nistrati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Account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i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c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19" descr="giudici"/>
          <p:cNvPicPr/>
          <p:nvPr/>
        </p:nvPicPr>
        <p:blipFill>
          <a:blip r:embed="rId1"/>
          <a:stretch/>
        </p:blipFill>
        <p:spPr>
          <a:xfrm>
            <a:off x="179280" y="1700280"/>
            <a:ext cx="4608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Magistrate Body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000 ca. (+ 3500 honorary judg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t and self-gover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secutors + Jud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cted by public compet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eer progression by senio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reputation and presti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7 magistrates killed (1969 – 199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8" descr="falcone_borsellino"/>
          <p:cNvPicPr/>
          <p:nvPr/>
        </p:nvPicPr>
        <p:blipFill>
          <a:blip r:embed="rId1"/>
          <a:stretch/>
        </p:blipFill>
        <p:spPr>
          <a:xfrm>
            <a:off x="4284720" y="1700280"/>
            <a:ext cx="4608360" cy="3124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4427640" y="5300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Giovanni Falcone - Paolo Borsell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The Court System </a:t>
            </a:r>
            <a:br>
              <a:rPr sz="4000"/>
            </a:b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(Civil + Criminal)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Cass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App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First Inst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 of Pe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Public Prosecutor at the Court of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Public Prosecutor at the Court of App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Prosecu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3"/>
          <p:cNvSpPr/>
          <p:nvPr/>
        </p:nvSpPr>
        <p:spPr>
          <a:xfrm>
            <a:off x="4859280" y="5229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secutors dispose of special section of Police (Judiciary Police), co-ordinate investigations  and promote criminal 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Justice system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ht to have 3 hearings, until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ruling is definitive and executive before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Cassation rules out, new hea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eal are new judgments and not revision of the precedent ruling 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vum judici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jury trial but most serious cases heard by a Court of Assize composed of two professional judge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iudici Togat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six lay judge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iudici Popola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.000 people in jail (1/2 of them foreigners… but very few Ukrainians!), frequent amnes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 forbids non-humane treat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 superintend on the whole correctional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des on probatio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orcement of verdict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ernative san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urity meas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5:13:54Z</dcterms:created>
  <dc:creator>pippo</dc:creator>
  <dc:description/>
  <dc:language>en-US</dc:language>
  <cp:lastModifiedBy>lipovyi</cp:lastModifiedBy>
  <dcterms:modified xsi:type="dcterms:W3CDTF">2013-08-01T09:24:54Z</dcterms:modified>
  <cp:revision>41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