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2720-7737-4620-A334-66B1F1F24A48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761F-0D64-4673-A8BA-36B27DE220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7E60-4AD9-4F37-B3EE-5055B4F4AA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8DB9-0C44-43F8-89ED-4365B8D59A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ADE-B1B3-4F8D-A5C4-A81E5C422D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DD14-FB4A-4410-8930-D212F013D1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55B6-BEAE-4129-A0E3-60E4D4A5E0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9BA0-C4FC-4FA0-A3CA-9E4EDCA271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57D-CD6D-4E1D-B9E2-0181397DC2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429A-FEF1-4810-ADA3-BAF679DF4E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9CF7-596E-422F-B6E1-18ED091F19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3782-470E-4C82-8936-6943924A0E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9D26-A0C0-4C3A-AC2C-0A96D96265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981F-767A-4556-B718-9D9C3E0FD7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663-07B7-455E-9EED-44C8DD7454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C2B-4CA4-4B0C-8E6C-27E56B54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7C2-C70E-456C-9287-4F80D85D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828-ADBC-44D4-9547-3FADD206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286-691F-453C-B7A3-61F46C77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EAF-67A6-4482-AC08-EF93F6F6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5E9-CE66-4CBA-B1C0-CFD8D91B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F34-29AC-4F01-BD10-F6D93D6F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15B-C0CA-41EB-BBE0-ADAB4D7B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25C-B140-405C-81B2-7AE656BA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6CA-3324-416A-B4DF-554EC2C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1E7-8DD7-47AE-A5BF-964C61FB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E37-D058-4557-ADDC-0F447368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4BF9-337D-4FD7-99BB-621CBF33CA8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CE4-C258-4DE3-BC2F-7226F360B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9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4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1628640"/>
            <a:ext cx="8642160" cy="4043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58ed5"/>
                </a:solidFill>
                <a:latin typeface="Georgia"/>
              </a:rPr>
              <a:t>Портал судової влади</a:t>
            </a:r>
            <a:br>
              <a:rPr sz="3600"/>
            </a:br>
            <a:br>
              <a:rPr sz="36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моніторинг інформаційного наповнення і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функціонування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фіційних веб-сайтів судів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порталі «Судова влада України»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2013 р.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2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2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523800" y="1268280"/>
            <a:ext cx="885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порталу за юрисдикція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(середня кількість переглядів за місяць на 1 су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10" descr=""/>
          <p:cNvPicPr/>
          <p:nvPr/>
        </p:nvPicPr>
        <p:blipFill>
          <a:blip r:embed="rId3"/>
          <a:stretch/>
        </p:blipFill>
        <p:spPr>
          <a:xfrm>
            <a:off x="665280" y="2346480"/>
            <a:ext cx="8607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3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631800" y="1268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сайтів судів Портал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за травень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3"/>
          <a:stretch/>
        </p:blipFill>
        <p:spPr>
          <a:xfrm>
            <a:off x="628560" y="2133720"/>
            <a:ext cx="8631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3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Прямоугольник 4"/>
          <p:cNvSpPr/>
          <p:nvPr/>
        </p:nvSpPr>
        <p:spPr>
          <a:xfrm>
            <a:off x="704880" y="1268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н оновлення судами власних сторінок у травні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31800" y="3068640"/>
          <a:ext cx="8642520" cy="2913120"/>
        </p:xfrm>
        <a:graphic>
          <a:graphicData uri="http://schemas.openxmlformats.org/drawingml/2006/table">
            <a:tbl>
              <a:tblPr/>
              <a:tblGrid>
                <a:gridCol w="7201080"/>
                <a:gridCol w="1441440"/>
              </a:tblGrid>
              <a:tr h="147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Загальна кількість внесеної інформац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0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Не 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 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1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44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45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7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ерспективи розвит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631800" y="1873080"/>
            <a:ext cx="864252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Автоматичне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оприлюднення на сторінці суду Списку справ, призначених до розгляду (триває тестова експлуатація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Календар проведення відеконференцій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Створення електронного кабінету відвідувача для роботи з електронним суд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надсилання матеріалів до су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отримання судових рішень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Створення системи моніторингу матеріально-технічного забезпечення судів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56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7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9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Веб-портал "Судова влада України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31800" y="5445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Мета: </a:t>
            </a:r>
            <a:r>
              <a:rPr b="0" lang="ru-RU" sz="1800" spc="-1" strike="noStrike">
                <a:solidFill>
                  <a:srgbClr val="558ed5"/>
                </a:solidFill>
                <a:latin typeface="Georgia"/>
              </a:rPr>
              <a:t>забезпечення безкоштовного доступу громадян та державних органів і установ до інформації про діяльність судів та судових уст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3"/>
          <a:srcRect l="287" t="13927" r="19526" b="6163"/>
          <a:stretch/>
        </p:blipFill>
        <p:spPr>
          <a:xfrm>
            <a:off x="1928880" y="1773360"/>
            <a:ext cx="6121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6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6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6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631800" y="1193760"/>
            <a:ext cx="8642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ідстави для розробки та нормативно-правові документи щодо адміністрування та наповнення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642960" y="2421000"/>
            <a:ext cx="86421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УКАЗ ПРЕЗИДЕНТА УКРАЇНИ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заход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щодо розвитку національної складової глобальної інформаційної мережі Інтернет та забезпечення широкого доступу до цієї мережі в Україні від 31 лип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0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928/2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ПОСТАНОВА КАБІНЕТ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У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МІНІСТРІВ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4 січня 2002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р.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3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Порядок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оприлюднення у мережі Інтернет інформації про діяльність органів виконавчої влади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ЕРЖАВНОЇ СУДОВОЇ АДМІНІСТРАЦІЇ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21 трав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3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186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творення Єдиної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комп</a:t>
            </a:r>
            <a:r>
              <a:rPr b="0" lang="ja-JP" sz="1400" spc="-1" strike="noStrike">
                <a:solidFill>
                  <a:srgbClr val="558ed5"/>
                </a:solidFill>
                <a:latin typeface="Georgia"/>
              </a:rPr>
              <a:t>’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ютерно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ережі судів України та запровадження централізованого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постереження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за потребам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ісцевих та апеляційних судів загальної юрисдикці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23 червня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2004 рок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№99/04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«Про забезпечення адміністрування та розміщення і постійного оновлення інформації на власних веб-сайтах судів та інших органів і установ судової системи у мережі Інтерн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17 червня 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2011 року № 103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«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Про організаційне забезпечення функціонування офіційного веб-портал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c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удової влади України» для сайту ДСА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Інструкція користувача ВЕБ-порталу "Судова Влада України“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(розроблена ДП “ІСС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73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7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76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31800" y="152892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Наповнення веб-порталу інформацією та керування сайтами суд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642960" y="284472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я, яка відображається на сторінках судів порталу, заповнюється особисто працівниками кожного суду, які мають паролі доступу до панелі керув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Усі данні зберігаються у централізований базі даних, головною метою якої є гарантоване збереження 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 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значних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бсягів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ї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д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доступу до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е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8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8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639800" y="1684440"/>
            <a:ext cx="6626160" cy="41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всіх судів загальної юрисдик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органів суддівського самоврядув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 ДСА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громадя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ий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Законодав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а стати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ажливі посил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9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сторінки су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424160" y="1916280"/>
            <a:ext cx="734508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про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Контакт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афік його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 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іш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несе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ЄДРС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Форма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ого інформаційного запиту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отрима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ублічної інформ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омадян та основні показники діяльності 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у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Будь-який інший розділ, доданий адміністратором сторі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9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631800" y="134136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1352520" y="2384280"/>
            <a:ext cx="7345440" cy="37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0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0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631800" y="1484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08120" y="2816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Автоматичне відображ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еб-сайт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ї про судові засід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передається на судовий портал з автоматизованої системи документообі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10"/>
          <p:cNvGrpSpPr/>
          <p:nvPr/>
        </p:nvGrpSpPr>
        <p:grpSpPr>
          <a:xfrm>
            <a:off x="0" y="55440"/>
            <a:ext cx="9906120" cy="1428840"/>
            <a:chOff x="0" y="55440"/>
            <a:chExt cx="9906120" cy="1428840"/>
          </a:xfrm>
        </p:grpSpPr>
        <p:grpSp>
          <p:nvGrpSpPr>
            <p:cNvPr id="113" name="Группа 14"/>
            <p:cNvGrpSpPr/>
            <p:nvPr/>
          </p:nvGrpSpPr>
          <p:grpSpPr>
            <a:xfrm>
              <a:off x="0" y="55440"/>
              <a:ext cx="9906120" cy="1428840"/>
              <a:chOff x="0" y="55440"/>
              <a:chExt cx="9906120" cy="142884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5544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34092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16" name="TextBox 9"/>
            <p:cNvSpPr/>
            <p:nvPr/>
          </p:nvSpPr>
          <p:spPr>
            <a:xfrm>
              <a:off x="0" y="49212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тистика перегляду 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Диаграмма 9" descr=""/>
          <p:cNvPicPr/>
          <p:nvPr/>
        </p:nvPicPr>
        <p:blipFill>
          <a:blip r:embed="rId3"/>
          <a:stretch/>
        </p:blipFill>
        <p:spPr>
          <a:xfrm>
            <a:off x="738360" y="1914480"/>
            <a:ext cx="85341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02:29Z</dcterms:created>
  <dc:creator>User</dc:creator>
  <dc:description/>
  <dc:language>en-US</dc:language>
  <cp:lastModifiedBy>ignatchenko</cp:lastModifiedBy>
  <cp:lastPrinted>2013-02-27T12:18:58Z</cp:lastPrinted>
  <dcterms:modified xsi:type="dcterms:W3CDTF">2014-03-14T13:03:15Z</dcterms:modified>
  <cp:revision>410</cp:revision>
  <dc:subject/>
  <dc:title>Презентация PowerPoint</dc:title>
</cp:coreProperties>
</file>